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2196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8B4-9738-49B4-8313-98F284904929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STING OUTSID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THREE CASE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2502360"/>
            <a:ext cx="731520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lanned 3 case studies per 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tegory a: government-run &amp; government-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tegory b: (partly) government-funded but run by non-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tegory c: neither funded nor run by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: None in category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tswana: Category c gets allowances from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: HIV/Aids NGO’s did th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re chance of use in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BC FOR HIV/AIDS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203560"/>
            <a:ext cx="868680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BC &amp; similar work “subsidizes”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omen do un/underpaid work which government would otherwise need to provide and pay full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Monthly value of HBC = 270 Pula in Botswana, US$ 130 in Mozambique, Z$ 403 550 in Zimbab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Under-estimates as based on low-paid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 &amp; policy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at can government do to lighten the load of th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at can government do to lessen the disadvantages imposed by this work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ose who d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STING &amp; UNPAID CAR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2877840"/>
            <a:ext cx="601956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GRB, reproductive health and unpaid ca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Home based care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Glass of milk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48480"/>
            <a:ext cx="86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sting = estimating amount of money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particula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 implement particula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w governments do full costing of plann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sult 1: Big prom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sult 2: Budgets that are too small for effectiv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GO’s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st services/policies important for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are calculated costs with budget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vocate for bigger &amp; bett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Y NGO’s MIGHT DO CO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581560"/>
            <a:ext cx="739152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 of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mergency obstetric care in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 of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tection orders for VAW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 of un/underpai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ome-based care for HIV/Aids in Botswana, Zimbabwe &amp; Mozamb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THRE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99600"/>
            <a:ext cx="868680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Fundar’s Maternal Mortality Project aims to address high maternal mortality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Rate highest among poor, indigenous &amp; rural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Previous research &amp; advoc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Led to increases in budgets for reproductive health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Budgets still too low in worst affec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Costs of delivering EmOC based on estimate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Prices of drugs &amp;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Number of expected pregnancies &amp; bir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Proportion of obstetric 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Finding: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Cost of providing EmOC to everyone who needs it is relativel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EMERGENCY OBSTETRIC CARE IN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459880"/>
            <a:ext cx="85345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1999: New &amp; improved Domestic Violence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June 1998: Gender Advocacy Programme (GAP) 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information session for NGOs about how government budgets are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Workshop where partners agreed that research is needed on how much mone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is allocated to implement new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search f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Some new money was allocated to train police officers and court officers on new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Some money was allocated for publicity and awareness-ra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Much of the money was provided by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DOMESTIC VIOLENCE ACT IN SOUTH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427840"/>
            <a:ext cx="845820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2001: Centre for Study of Violence &amp; Reconcil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asked police officials how much they allocated to implement work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gender-ba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2005: CSVR calculated how much needed to implement 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did research in 9 districts – urban and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asked officers in courts &amp; police stations how long they spent on a typic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multiplied time spent by relevant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multiplied total amount for single case by estimated number of cases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to work further with CSVR on 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DOMESTIC VIOLENCE ACT IN SOUTH AFRIC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2586960"/>
            <a:ext cx="76964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Guidebook: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Why Should We Care About Unpaid Care Work?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Intended as basis for research and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Focus on home-based care (H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Policy 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How to provide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HBC without unbearable and unfair burden on particular 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OME-BASED CARE FOR HIV/A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41360"/>
            <a:ext cx="86868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cus of re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ime and mone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specially “costs” of unpaid and underpaid la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regivers in HBC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regivers in affected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fining a HBC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vides home visits to households containing Person Living with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rvices include personal care, housework, cooking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BC FOR HIV/AIDS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199960"/>
            <a:ext cx="868680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ultiple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1: For director of HBC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2: For person responsible for HBC work in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3: 5 x home visitors. Includes di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4: 2 x beneficiary households for each vis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5: Focus group guidelines (only used Zimbab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6: Data to estimate value of HBC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7: Background information o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BC FOR HIV/AIDS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29:11Z</dcterms:created>
  <dc:creator>Meli</dc:creator>
  <dc:description/>
  <dc:language>en-US</dc:language>
  <cp:lastModifiedBy>natalia  tomaszewska</cp:lastModifiedBy>
  <dcterms:modified xsi:type="dcterms:W3CDTF">2007-03-06T23:35:03Z</dcterms:modified>
  <cp:revision>21</cp:revision>
  <dc:subject/>
  <dc:title>PowerPoint Presentation</dc:title>
</cp:coreProperties>
</file>