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92BC-9AE9-43A3-8373-26B9C9BE7964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LANNING AND POLIC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HOW CAN GRB ASSI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724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AMPLES OF INDICATORS IN PERFORMANCE BUDGETING FOR POPUL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8091360" cy="425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57760" y="22748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ENDER RESPONSIVE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9440" y="3036960"/>
            <a:ext cx="26269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put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, equipment, service outlet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Employees, logistics, buildings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00600" y="3141720"/>
            <a:ext cx="2806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cess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Training HRD, Monitoring/Superv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880" y="4103640"/>
            <a:ext cx="25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utput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Performance, Contraceptive use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Couple Years of Protection (CY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6880" y="5291280"/>
            <a:ext cx="24728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utcome/Impact Indica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Contraceptive Prevalence 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(CPR), Total Fertility Rate (TFR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Population Growth Rate (PG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45520"/>
            <a:ext cx="86868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om examination of budget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takes many 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works better when done with budgets organised by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objectives should be linked to government’s overall develop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RB initiatives need to take broader planning &amp; policy developments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RB initiatives need to prioritize what aspects they tackle so as not to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e overwhel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OME FINAL THOU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07160"/>
            <a:ext cx="8686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0: Budget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8: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exican guide to formulating healt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ctor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S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1967040"/>
            <a:ext cx="86868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ea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outside government, as basis for advocacy, but government may do research to inform policies &amp;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voc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outside government, but CAN be inside government &amp;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nito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role of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should monitor as part of management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ivil society can monitor 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whom? By whom? To do &amp; know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wareness-rai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whom? By whom? To achieve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analysis &amp; 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is is Government’s role but it can involve other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MON GRB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5 STEPS OF GENDER ANALYSIS OF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770120"/>
            <a:ext cx="83818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crib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women &amp; men, girls &amp;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whether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is gender-sensitive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i.e. whether it addresses the situation described in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that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equate budget is allocate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to implement the gender-sensitiv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whether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nditure is done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as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amine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mpact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the policy and expenditure i.e. whether it has promoted gender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uch of the above is familiar to people working on 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added value is the inclusion of budget-relat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mphasises that the situation drives the policy which in turn drives th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5 steps 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y those outside government to assess governmen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y government for planning through implementation to 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187720"/>
            <a:ext cx="86868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efficiency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by ensuring expenditure benefits thos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o need it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monitoring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by knowing who government services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r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ck implementation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reduce 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transparency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port on progress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with national and international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TS OF GRB WORK FOR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USES OF GRB FOR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257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4290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ENDER RESPONSIV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9760" y="611352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ing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65240" y="16938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ioriti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34360" y="233208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ac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7040" y="37512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6600" y="489420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nitoring &a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58600" y="2303640"/>
            <a:ext cx="101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mo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4680" y="378288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35920" y="4830840"/>
            <a:ext cx="15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tilizing hum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s to the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ll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EXICAN GUIDE FOR BUDGET FORMATION IN HEALTH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68480"/>
            <a:ext cx="86868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uide developed as joint effor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inistry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 NGOs – one budget analysis &amp; one women’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im: Assist government planners in designing gender-sensitive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licies &amp; budg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ro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RB is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t 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bout how much money is spent on services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RB is about allocating money for activities that eliminate gender barriers to (mainly) women and (some) men accessing health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ix steps of formulating gender-responsive bud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is 1: Revision of the diagnosis using a gender equality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is 2: Analysis of gender 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ing 1: Determination of components and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ing 2: Determination of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ing 1: Allocation of resources for addressing gende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ing 2: Design of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EXICAN GUIDE FOR BUDGET FORMATION IN HEALTH SECTOR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079360"/>
            <a:ext cx="868680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 categories match the first 3 steps of the 5-ste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ore clearly expressed as things to be done by government officials when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ormulat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uide stresses prioritization of strategies/actions with biggest impact on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t 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(usually) about completely changing existing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s about incrementally incorporating gender equality criteria within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Questions to assist with incorporating ge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which of existing headings can funds for actions towards gender equality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e inclu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which of existing components can new headings (or sub-programmes)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e inclu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s it necessary to allocate resources to create new/better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hould some resources be directed to particular groups to address their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cific nee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12560"/>
            <a:ext cx="868680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says that bud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re not only about financial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hould align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ney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with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polici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and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verall objectiv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government (including gender equ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ll circular for performance budgeting usually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gencies must report on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, goals, strategic issues, objectives, performance targe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has same basic framework as 5 step-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t GRB add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quity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to traditional 3Es of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conomy, Efficiency,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utting gender into performance budg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issues can be reflected explicitly or implicitly in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can be reflected explicitly by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on of targets and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can be reflected by inclusion of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argets and indicators that focus on </a:t>
            </a:r>
            <a:br>
              <a:rPr sz="2000"/>
            </a:b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-relevant issues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VAW or fer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RB &amp; PERFORMANCE BUDG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ERFORMANCE BUDGETING &amp; THE 3 E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2133720"/>
            <a:ext cx="8212320" cy="42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1080" y="2274840"/>
            <a:ext cx="1451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ovide healt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care whic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vents dis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6560" y="227484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ab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frastructur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1520" y="227484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laucom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720" y="227484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duc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evalence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5002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85680" y="4179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1799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35680" y="417996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2760" y="561492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edical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4800" y="561492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per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2760" y="5500800"/>
            <a:ext cx="154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etection rates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of glaucoma for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target pop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240" y="18176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icy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2040" y="18176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0160" y="181764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72120" y="181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8840" y="18176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93968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10040" y="166536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748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48640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e 2.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basic structur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utcomes and outpu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dgeting applica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health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natalia  tomaszewska</cp:lastModifiedBy>
  <dcterms:modified xsi:type="dcterms:W3CDTF">2007-03-06T23:41:20Z</dcterms:modified>
  <cp:revision>54</cp:revision>
  <dc:subject/>
  <dc:title>PowerPoint Presentation</dc:title>
</cp:coreProperties>
</file>