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749000" y="61722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2C0E-5169-485F-9905-B0A9408363C3}" type="slidenum">
              <a:rPr b="0" lang="en-US" sz="1600" spc="-1" strike="noStrike">
                <a:solidFill>
                  <a:srgbClr val="ea843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ERE ARE MORE POSSIBILITIES THAN YOU THIN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4290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DATA REQUIREMENTS FOR GR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2199240"/>
            <a:ext cx="868680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urther activities to lay foundation for unpaid care work being included in macroeconomic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Workshops to explain the importance of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Research in 2 districts on time spent by household members caring for people sick with HIV/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Meetings with National Bureau of Statistics &amp; offer to provide support in raising funds and technical exp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Advocacy &amp; awareness raising among budget decision-m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-&gt; NBS agreed to do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-&gt; Government agreed to provide bulk of f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-&gt; UNICEF provided small fund for technical &amp; relate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ime use study currently in field as add-on to year-long L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GNP providing technical support &amp; planning on how to u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NGO ADVOCACY ON TIME USE IN TANZANIA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2203920"/>
            <a:ext cx="8686800" cy="34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</a:rPr>
              <a:t>Work with government statistics agencies to collect more accurate data on 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</a:rPr>
              <a:t>E.g. NGOs in Pakistan funded by UNFPA to assist with 1998 cen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</a:rPr>
              <a:t>One NGO did gender training for census enumerators so that they would recognise the ‘invisible’ work wome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</a:rPr>
              <a:t>One NGO organised 120 grassroots organisation to conduct district-level meetings to raise awareness about women’s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Raise problems where indicators are bi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E.g. contraceptive prevalence rates based only on married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E.g. surveys that don’t cover all areas/ people (e.g. informal settlements or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migrant work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OTHER POSSIBILITIES FOR NGO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76720" y="3162960"/>
            <a:ext cx="2438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REFERENCE TO RESOURCE P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2580840"/>
            <a:ext cx="769608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x-disaggregated data distinguishes male and female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499"/>
              </a:spcBef>
              <a:buClr>
                <a:srgbClr val="e9790b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umber of men and women steri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499"/>
              </a:spcBef>
              <a:buClr>
                <a:srgbClr val="e9790b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umber of male and female do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nder-sensitive dat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isaggregated data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ata on issues that are important from gender perspective e.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ata on maternal mort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ata on violence against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e need both types of data for G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SEX-DISAGGREGATED VS GENDER SENSITIVE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2202120"/>
            <a:ext cx="86868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udget analysis often frustrated by lack of disaggreg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No disaggregation into male/fem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No disaggregation of allocations into relevant expendi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E.g. no separate line for police dealing with domestic violence interdi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E.g. can’t separate out patients treated for HIV-related vs other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Lack of disaggregation of budget figures does not mean gender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nalysis im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an use prox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E.g. number of interdicts 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E.g. numbers tested for HIV, or given ARV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DISAGGREGATION OF BUDG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507040"/>
            <a:ext cx="8323200" cy="25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rformance budgeting uses 3 types of indicators in relation to government ‘activities’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put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reflect what is purchased with budget allocations so as to be ab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o undertak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utput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reflect what is ‘delivered’ by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utcome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reflect the ‘results’ of th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ome countries also hav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‘process’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BUDGET INDIC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5200" y="2240280"/>
            <a:ext cx="8686800" cy="37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dicator provides ‘indication’ of situation, not the full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arning system as to where further investigation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inputs and outputs need data on annual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outcomes can have less frequ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wo main sources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dministrative – from government doing its ‘busines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ood for GRB as directly related to particula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ensuses and 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ood for situation analysis or outcomes as reflect full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ut there can be contradictions between administrative &amp; surve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eed to compare to test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WHAT IS AN INDICAT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2318760"/>
            <a:ext cx="7315200" cy="35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ministra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Health (&amp; other) Management Inform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Health facility attendance/enrolment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opulation censu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ually every 10 years, so not very useful for annual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rve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ocial &amp; Living Standards Measurement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Demographic &amp; Health 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Labour Force 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ultiple Indicator Cluster Survey (UNIC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ime use 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MAJOR DATA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505960"/>
            <a:ext cx="8686800" cy="25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ommon complaint in GRB (and other mainstreaming) initia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There are no/few gender-rela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Lack of gender statistics must not prevent work happening. GRB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an act as impetus for more and better gender-sensitiv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an stimulate once-off surveys/investi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an (even better) result in creation/improvement of institutionalised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administrativ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WHAT DO WE DO IF DATA NOT AVAILAB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2224800"/>
            <a:ext cx="8686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o small-scale invest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 the results until government has ‘bigger’ results that contradict y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monstrate that data collection on new key issues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alyze exist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isaggregate by sex where the standard analysis does not do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int out the questions/issues that are mi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int out the questions that are phrased incor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int out other problems in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int out contradictory results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ffer the NGO’s expertise to assist official data coll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WHAT CAN NGO’s D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626560"/>
            <a:ext cx="86868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1997: Tanzania Gender Networking Programme started doing GRB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Started with gender-aware policy appraisal in education, health,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1998: Ministry of Finance started doing GRB insid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sked TGNP to assist sectoral officials with manual, training &amp; follow-up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Then TGNP expanded focus beyond budget office to influence broader macroeconomic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Realised time use survey needed to produce miss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rranged meetings &amp; workshops with Planning Commission to raise awar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dvocated to get labour part of new macroeconomic model sex-disaggreg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Commissioned study based on new sex-disaggregated macroeconomic model to show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NGO ADVOCACY ON TIME USE IN TANZA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0:00:53Z</dcterms:created>
  <dc:creator>Meli</dc:creator>
  <dc:description/>
  <dc:language>en-US</dc:language>
  <cp:lastModifiedBy>natalia  tomaszewska</cp:lastModifiedBy>
  <dcterms:modified xsi:type="dcterms:W3CDTF">2007-03-06T23:30:08Z</dcterms:modified>
  <cp:revision>23</cp:revision>
  <dc:subject/>
  <dc:title>PowerPoint Presentation</dc:title>
</cp:coreProperties>
</file>