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8045640" y="6400800"/>
            <a:ext cx="110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99D70-40FE-47AA-A43D-E528F9D15518}" type="slidenum">
              <a:rPr b="0" lang="en-US" sz="1600" spc="-1" strike="noStrike">
                <a:solidFill>
                  <a:srgbClr val="ff8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28954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COSTING THE MDG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3397320"/>
            <a:ext cx="9144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Narrow"/>
              </a:rPr>
              <a:t>WITH FOCUS ON RH &amp; GEND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533520" y="2242440"/>
            <a:ext cx="8686800" cy="348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0" bIns="0" anchor="ctr">
            <a:spAutoFit/>
          </a:bodyPr>
          <a:p>
            <a:pPr marL="122400" indent="-122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522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Many countries now say MDGs are their overall development 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112680">
              <a:lnSpc>
                <a:spcPct val="80000"/>
              </a:lnSpc>
              <a:spcBef>
                <a:spcPts val="499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522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 Narrow"/>
                <a:ea typeface="宋体"/>
              </a:rPr>
              <a:t>If we say budget must follow plan, MDGs become important for GRB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522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There are several different estimates of global MDG co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112680">
              <a:lnSpc>
                <a:spcPct val="80000"/>
              </a:lnSpc>
              <a:spcBef>
                <a:spcPts val="499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522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 Narrow"/>
                <a:ea typeface="宋体"/>
              </a:rPr>
              <a:t>Global estimates are mainly useful in informing UN, donors &amp; IFIs </a:t>
            </a:r>
            <a:br>
              <a:rPr sz="2000"/>
            </a:br>
            <a:r>
              <a:rPr b="0" lang="en-ZA" sz="2000" spc="-1" strike="noStrike">
                <a:solidFill>
                  <a:srgbClr val="000000"/>
                </a:solidFill>
                <a:latin typeface="Arial Narrow"/>
                <a:ea typeface="宋体"/>
              </a:rPr>
              <a:t>of what ‘extra’ is nee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522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Some countries are developing national estim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112680">
              <a:lnSpc>
                <a:spcPct val="80000"/>
              </a:lnSpc>
              <a:spcBef>
                <a:spcPts val="499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522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 Narrow"/>
                <a:ea typeface="宋体"/>
              </a:rPr>
              <a:t>Can be sign that MDGs are taken serious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522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Different approach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112680">
              <a:lnSpc>
                <a:spcPct val="80000"/>
              </a:lnSpc>
              <a:spcBef>
                <a:spcPts val="499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522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 Narrow"/>
                <a:ea typeface="宋体"/>
              </a:rPr>
              <a:t>For MDGs as a who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112680">
              <a:lnSpc>
                <a:spcPct val="80000"/>
              </a:lnSpc>
              <a:spcBef>
                <a:spcPts val="499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522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 Narrow"/>
                <a:ea typeface="宋体"/>
              </a:rPr>
              <a:t>For specific go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112680">
              <a:lnSpc>
                <a:spcPct val="80000"/>
              </a:lnSpc>
              <a:spcBef>
                <a:spcPts val="499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522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 Narrow"/>
                <a:ea typeface="宋体"/>
              </a:rPr>
              <a:t>For other categoris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86868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600" spc="-1" strike="noStrike">
                <a:solidFill>
                  <a:srgbClr val="ffffff"/>
                </a:solidFill>
                <a:latin typeface="Arial Narrow"/>
              </a:rPr>
              <a:t>COSTING THE MDG’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533520" y="2196360"/>
            <a:ext cx="8686800" cy="37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0" bIns="0" anchor="ctr">
            <a:spAutoFit/>
          </a:bodyPr>
          <a:p>
            <a:pPr marL="174600" indent="-174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Wide variation in estimat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22360" indent="-112680">
              <a:lnSpc>
                <a:spcPct val="90000"/>
              </a:lnSpc>
              <a:spcBef>
                <a:spcPts val="499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ZA" sz="2000" spc="-1" strike="noStrike">
                <a:solidFill>
                  <a:srgbClr val="000000"/>
                </a:solidFill>
                <a:latin typeface="Arial Narrow"/>
                <a:ea typeface="宋体"/>
              </a:rPr>
              <a:t>Zedillo Report of High Level Panel on FFD</a:t>
            </a:r>
            <a:r>
              <a:rPr b="0" lang="en-ZA" sz="2000" spc="-1" strike="noStrike">
                <a:solidFill>
                  <a:srgbClr val="000000"/>
                </a:solidFill>
                <a:latin typeface="Arial Narrow"/>
                <a:ea typeface="宋体"/>
              </a:rPr>
              <a:t>: $50 bn p.a. to achieve 2015 go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22360" indent="-112680">
              <a:lnSpc>
                <a:spcPct val="90000"/>
              </a:lnSpc>
              <a:spcBef>
                <a:spcPts val="499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ZA" sz="2000" spc="-1" strike="noStrike">
                <a:solidFill>
                  <a:srgbClr val="000000"/>
                </a:solidFill>
                <a:latin typeface="Arial Narrow"/>
                <a:ea typeface="宋体"/>
              </a:rPr>
              <a:t>World Bank</a:t>
            </a:r>
            <a:r>
              <a:rPr b="0" lang="en-ZA" sz="2000" spc="-1" strike="noStrike">
                <a:solidFill>
                  <a:srgbClr val="000000"/>
                </a:solidFill>
                <a:latin typeface="Arial Narrow"/>
                <a:ea typeface="宋体"/>
              </a:rPr>
              <a:t>: Cost to donors = US$ 35- $76 bn p.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22360" indent="-112680">
              <a:lnSpc>
                <a:spcPct val="90000"/>
              </a:lnSpc>
              <a:spcBef>
                <a:spcPts val="499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ZA" sz="2000" spc="-1" strike="noStrike">
                <a:solidFill>
                  <a:srgbClr val="000000"/>
                </a:solidFill>
                <a:latin typeface="Arial Narrow"/>
                <a:ea typeface="宋体"/>
              </a:rPr>
              <a:t>UNDP HDR background paper</a:t>
            </a:r>
            <a:r>
              <a:rPr b="0" lang="en-ZA" sz="2000" spc="-1" strike="noStrike">
                <a:solidFill>
                  <a:srgbClr val="000000"/>
                </a:solidFill>
                <a:latin typeface="Arial Narrow"/>
                <a:ea typeface="宋体"/>
              </a:rPr>
              <a:t>: Goal 1 = US$ 76b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UNFPA’s MYF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22360" indent="-112680">
              <a:lnSpc>
                <a:spcPct val="90000"/>
              </a:lnSpc>
              <a:spcBef>
                <a:spcPts val="499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 Narrow"/>
                <a:ea typeface="宋体"/>
              </a:rPr>
              <a:t>World Bank estimates US$ 20-25 bn p.a. for health-related MDGs </a:t>
            </a:r>
            <a:r>
              <a:rPr b="0" i="1" lang="en-ZA" sz="2000" spc="-1" strike="noStrike">
                <a:solidFill>
                  <a:srgbClr val="000000"/>
                </a:solidFill>
                <a:latin typeface="Arial Narrow"/>
                <a:ea typeface="宋体"/>
              </a:rPr>
              <a:t>v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22360" indent="-112680">
              <a:lnSpc>
                <a:spcPct val="90000"/>
              </a:lnSpc>
              <a:spcBef>
                <a:spcPts val="499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 Narrow"/>
                <a:ea typeface="宋体"/>
              </a:rPr>
              <a:t>2001 international financial resource flows for population-related assistance </a:t>
            </a:r>
            <a:br>
              <a:rPr sz="2000"/>
            </a:br>
            <a:r>
              <a:rPr b="0" lang="en-ZA" sz="2000" spc="-1" strike="noStrike">
                <a:solidFill>
                  <a:srgbClr val="000000"/>
                </a:solidFill>
                <a:latin typeface="Arial Narrow"/>
                <a:ea typeface="宋体"/>
              </a:rPr>
              <a:t>= US$ 2.5b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National estimates more helpful for GRB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22360" indent="-112680">
              <a:lnSpc>
                <a:spcPct val="90000"/>
              </a:lnSpc>
              <a:spcBef>
                <a:spcPts val="499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 Narrow"/>
                <a:ea typeface="宋体"/>
              </a:rPr>
              <a:t>Could be more accurate because better base fa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22360" indent="-112680">
              <a:lnSpc>
                <a:spcPct val="90000"/>
              </a:lnSpc>
              <a:spcBef>
                <a:spcPts val="499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 Narrow"/>
                <a:ea typeface="宋体"/>
              </a:rPr>
              <a:t>Can be used in discussions about national bud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86868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600" spc="-1" strike="noStrike">
                <a:solidFill>
                  <a:srgbClr val="ffffff"/>
                </a:solidFill>
                <a:latin typeface="Arial Narrow"/>
              </a:rPr>
              <a:t>GLOBAL ESTIMA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533520" y="1994040"/>
            <a:ext cx="8686800" cy="43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0" bIns="0" anchor="ctr">
            <a:spAutoFit/>
          </a:bodyPr>
          <a:p>
            <a:pPr marL="122400" indent="-122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10 ‘models’ with spreadsheets &amp; user gui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22040">
              <a:lnSpc>
                <a:spcPct val="80000"/>
              </a:lnSpc>
              <a:spcBef>
                <a:spcPts val="499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Arial"/>
              </a:rPr>
              <a:t>Division into models does not match division into goal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22040">
              <a:lnSpc>
                <a:spcPct val="80000"/>
              </a:lnSpc>
              <a:spcBef>
                <a:spcPts val="499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Arial"/>
              </a:rPr>
              <a:t>Edu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22040">
              <a:lnSpc>
                <a:spcPct val="80000"/>
              </a:lnSpc>
              <a:spcBef>
                <a:spcPts val="499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Arial"/>
              </a:rPr>
              <a:t>Gen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22040">
              <a:lnSpc>
                <a:spcPct val="80000"/>
              </a:lnSpc>
              <a:spcBef>
                <a:spcPts val="499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Arial"/>
              </a:rPr>
              <a:t>Water &amp; sani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22040">
              <a:lnSpc>
                <a:spcPct val="80000"/>
              </a:lnSpc>
              <a:spcBef>
                <a:spcPts val="499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Arial"/>
              </a:rPr>
              <a:t>Hun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22040">
              <a:lnSpc>
                <a:spcPct val="80000"/>
              </a:lnSpc>
              <a:spcBef>
                <a:spcPts val="499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Arial"/>
              </a:rPr>
              <a:t>Heal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22040">
              <a:lnSpc>
                <a:spcPct val="80000"/>
              </a:lnSpc>
              <a:spcBef>
                <a:spcPts val="499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Arial"/>
              </a:rPr>
              <a:t>Child heal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22040">
              <a:lnSpc>
                <a:spcPct val="80000"/>
              </a:lnSpc>
              <a:spcBef>
                <a:spcPts val="499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Arial"/>
              </a:rPr>
              <a:t>Maternal &amp; reproductive heal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22040">
              <a:lnSpc>
                <a:spcPct val="80000"/>
              </a:lnSpc>
              <a:spcBef>
                <a:spcPts val="499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Arial"/>
              </a:rPr>
              <a:t>HIV/AI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22040">
              <a:lnSpc>
                <a:spcPct val="80000"/>
              </a:lnSpc>
              <a:spcBef>
                <a:spcPts val="499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Arial"/>
              </a:rPr>
              <a:t>Mala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22040">
              <a:lnSpc>
                <a:spcPct val="80000"/>
              </a:lnSpc>
              <a:spcBef>
                <a:spcPts val="499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Arial"/>
              </a:rPr>
              <a:t>Tuberculo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Critique from Morocco GRB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22040">
              <a:lnSpc>
                <a:spcPct val="80000"/>
              </a:lnSpc>
              <a:spcBef>
                <a:spcPts val="499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Arial"/>
              </a:rPr>
              <a:t>How does one deal with cross-sectoral/goal interaction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86868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600" spc="-1" strike="noStrike">
                <a:solidFill>
                  <a:srgbClr val="ffffff"/>
                </a:solidFill>
                <a:latin typeface="Arial Narrow"/>
              </a:rPr>
              <a:t>MILLENIUM PROJECT TOO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600200" y="2120400"/>
            <a:ext cx="5791320" cy="42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0" bIns="0" anchor="ctr">
            <a:spAutoFit/>
          </a:bodyPr>
          <a:p>
            <a:pPr marL="174600" indent="-174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 Narrow"/>
                <a:ea typeface="宋体"/>
              </a:rPr>
              <a:t>Interventions coste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112680">
              <a:lnSpc>
                <a:spcPct val="80000"/>
              </a:lnSpc>
              <a:spcBef>
                <a:spcPts val="451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10 on family pla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112680">
              <a:lnSpc>
                <a:spcPct val="80000"/>
              </a:lnSpc>
              <a:spcBef>
                <a:spcPts val="451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5 on antenatal care and deliv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112680">
              <a:lnSpc>
                <a:spcPct val="80000"/>
              </a:lnSpc>
              <a:spcBef>
                <a:spcPts val="451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7 on obstetric compli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112680">
              <a:lnSpc>
                <a:spcPct val="80000"/>
              </a:lnSpc>
              <a:spcBef>
                <a:spcPts val="451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3 on other maternal cond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112680">
              <a:lnSpc>
                <a:spcPct val="80000"/>
              </a:lnSpc>
              <a:spcBef>
                <a:spcPts val="451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3 on newbo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112680">
              <a:lnSpc>
                <a:spcPct val="80000"/>
              </a:lnSpc>
              <a:spcBef>
                <a:spcPts val="451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5 on ST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 Narrow"/>
                <a:ea typeface="宋体"/>
              </a:rPr>
              <a:t>For each intervention, calculat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112680">
              <a:lnSpc>
                <a:spcPct val="80000"/>
              </a:lnSpc>
              <a:spcBef>
                <a:spcPts val="451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cost per average c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112680">
              <a:lnSpc>
                <a:spcPct val="80000"/>
              </a:lnSpc>
              <a:spcBef>
                <a:spcPts val="451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number of potential beneficiaries per y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112680">
              <a:lnSpc>
                <a:spcPct val="80000"/>
              </a:lnSpc>
              <a:spcBef>
                <a:spcPts val="451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total annual c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 Narrow"/>
                <a:ea typeface="宋体"/>
              </a:rPr>
              <a:t>Provides fo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112680">
              <a:lnSpc>
                <a:spcPct val="80000"/>
              </a:lnSpc>
              <a:spcBef>
                <a:spcPts val="451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staff, drugs &amp; other suppl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 Narrow"/>
                <a:ea typeface="宋体"/>
              </a:rPr>
              <a:t>Does </a:t>
            </a:r>
            <a:r>
              <a:rPr b="0" i="1" lang="en-ZA" sz="2000" spc="-1" strike="noStrike">
                <a:solidFill>
                  <a:srgbClr val="000000"/>
                </a:solidFill>
                <a:latin typeface="Arial Narrow"/>
                <a:ea typeface="宋体"/>
              </a:rPr>
              <a:t>not</a:t>
            </a:r>
            <a:r>
              <a:rPr b="0" lang="en-ZA" sz="2000" spc="-1" strike="noStrike">
                <a:solidFill>
                  <a:srgbClr val="000000"/>
                </a:solidFill>
                <a:latin typeface="Arial Narrow"/>
                <a:ea typeface="宋体"/>
              </a:rPr>
              <a:t> cov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112680">
              <a:lnSpc>
                <a:spcPct val="80000"/>
              </a:lnSpc>
              <a:spcBef>
                <a:spcPts val="451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cost of facilities, equipment &amp; other overhead co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86868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600" spc="-1" strike="noStrike">
                <a:solidFill>
                  <a:srgbClr val="ffffff"/>
                </a:solidFill>
                <a:latin typeface="Arial Narrow"/>
              </a:rPr>
              <a:t>MATERNAL &amp; RH TOO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219320" y="1964880"/>
            <a:ext cx="7010280" cy="45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0" bIns="0" anchor="ctr">
            <a:spAutoFit/>
          </a:bodyPr>
          <a:p>
            <a:pPr marL="122400" indent="-122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To use model, need 5 types of da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22040">
              <a:lnSpc>
                <a:spcPct val="80000"/>
              </a:lnSpc>
              <a:spcBef>
                <a:spcPts val="499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 Narrow"/>
                <a:ea typeface="宋体"/>
              </a:rPr>
              <a:t>Demographic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indent="-114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e.g. number of women of reproductive 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22040">
              <a:lnSpc>
                <a:spcPct val="80000"/>
              </a:lnSpc>
              <a:spcBef>
                <a:spcPts val="499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 Narrow"/>
                <a:ea typeface="宋体"/>
              </a:rPr>
              <a:t>Epidemiological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indent="-114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e.g. incidence of complications of pregnancy and ST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22040">
              <a:lnSpc>
                <a:spcPct val="80000"/>
              </a:lnSpc>
              <a:spcBef>
                <a:spcPts val="499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 Narrow"/>
                <a:ea typeface="宋体"/>
              </a:rPr>
              <a:t>Current coverage rates for different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22040">
              <a:lnSpc>
                <a:spcPct val="80000"/>
              </a:lnSpc>
              <a:spcBef>
                <a:spcPts val="499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 Narrow"/>
                <a:ea typeface="宋体"/>
              </a:rPr>
              <a:t>Information on drugs and supplies requi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22040">
              <a:lnSpc>
                <a:spcPct val="80000"/>
              </a:lnSpc>
              <a:spcBef>
                <a:spcPts val="499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 Narrow"/>
                <a:ea typeface="宋体"/>
              </a:rPr>
              <a:t>Cost data related to staff, drugs &amp; other suppl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Files/documents provid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22040">
              <a:lnSpc>
                <a:spcPct val="80000"/>
              </a:lnSpc>
              <a:spcBef>
                <a:spcPts val="499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Arial"/>
              </a:rPr>
              <a:t>Cost per c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22040">
              <a:lnSpc>
                <a:spcPct val="80000"/>
              </a:lnSpc>
              <a:spcBef>
                <a:spcPts val="499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Arial"/>
              </a:rPr>
              <a:t>Total c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22040">
              <a:lnSpc>
                <a:spcPct val="80000"/>
              </a:lnSpc>
              <a:spcBef>
                <a:spcPts val="499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Arial"/>
              </a:rPr>
              <a:t>Costing tool database of default values (for 200 countri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indent="-114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Arial"/>
              </a:rPr>
              <a:t>(includes source &amp; assumptio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22040">
              <a:lnSpc>
                <a:spcPct val="80000"/>
              </a:lnSpc>
              <a:spcBef>
                <a:spcPts val="499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Arial"/>
              </a:rPr>
              <a:t>Data collection form for ‘Total cost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22040">
              <a:lnSpc>
                <a:spcPct val="80000"/>
              </a:lnSpc>
              <a:spcBef>
                <a:spcPts val="499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Arial"/>
              </a:rPr>
              <a:t>User gu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86868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600" spc="-1" strike="noStrike">
                <a:solidFill>
                  <a:srgbClr val="ffffff"/>
                </a:solidFill>
                <a:latin typeface="Arial Narrow"/>
              </a:rPr>
              <a:t>MATERNAL &amp; REPRODUCTIVE HEALTH TOO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04920" y="2076840"/>
            <a:ext cx="8686800" cy="40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0" bIns="0" anchor="ctr">
            <a:spAutoFit/>
          </a:bodyPr>
          <a:p>
            <a:pPr marL="122400" indent="-122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Posi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22040">
              <a:lnSpc>
                <a:spcPct val="80000"/>
              </a:lnSpc>
              <a:spcBef>
                <a:spcPts val="499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 Narrow"/>
                <a:ea typeface="宋体"/>
              </a:rPr>
              <a:t>Goes beyond MDG gender go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indent="-114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includes gender-specific interventions covered in needs assessment for other ‘sectors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89040" indent="-114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Supports need for ‘engendering’ all go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22040">
              <a:lnSpc>
                <a:spcPct val="80000"/>
              </a:lnSpc>
              <a:spcBef>
                <a:spcPts val="499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 Narrow"/>
                <a:ea typeface="宋体"/>
              </a:rPr>
              <a:t>Provides for gender needs assessment of what needed to make gender policies </a:t>
            </a:r>
            <a:br>
              <a:rPr sz="2000"/>
            </a:br>
            <a:r>
              <a:rPr b="0" lang="en-ZA" sz="2000" spc="-1" strike="noStrike">
                <a:solidFill>
                  <a:srgbClr val="000000"/>
                </a:solidFill>
                <a:latin typeface="Arial Narrow"/>
                <a:ea typeface="宋体"/>
              </a:rPr>
              <a:t>(such as national plans) operati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indent="-114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Allows costing of elements not covered in needs assessments for other se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Neg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22040">
              <a:lnSpc>
                <a:spcPct val="80000"/>
              </a:lnSpc>
              <a:spcBef>
                <a:spcPts val="499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 Narrow"/>
                <a:ea typeface="宋体"/>
              </a:rPr>
              <a:t>Intended to highlight &amp; encourage gender interventions but could have opposite eff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indent="-114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Gender seen as ‘extra’ &amp; disregarded if limited re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Better approach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22040">
              <a:lnSpc>
                <a:spcPct val="80000"/>
              </a:lnSpc>
              <a:spcBef>
                <a:spcPts val="499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 Narrow"/>
                <a:ea typeface="宋体"/>
              </a:rPr>
              <a:t>Make sure that gender interventions are included as part of mainstream </a:t>
            </a:r>
            <a:br>
              <a:rPr sz="2000"/>
            </a:br>
            <a:r>
              <a:rPr b="0" lang="en-ZA" sz="2000" spc="-1" strike="noStrike">
                <a:solidFill>
                  <a:srgbClr val="000000"/>
                </a:solidFill>
                <a:latin typeface="Arial Narrow"/>
                <a:ea typeface="宋体"/>
              </a:rPr>
              <a:t>sector mod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86868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600" spc="-1" strike="noStrike">
                <a:solidFill>
                  <a:srgbClr val="ffffff"/>
                </a:solidFill>
                <a:latin typeface="Arial Narrow"/>
              </a:rPr>
              <a:t>SEPARATE COSTING OF GENDER EQUAL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685800" y="2425680"/>
            <a:ext cx="8686800" cy="32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0" bIns="0" anchor="ctr">
            <a:spAutoFit/>
          </a:bodyPr>
          <a:p>
            <a:pPr marL="122400" indent="-122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Question proposed strateg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22040">
              <a:lnSpc>
                <a:spcPct val="90000"/>
              </a:lnSpc>
              <a:spcBef>
                <a:spcPts val="499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Arial"/>
              </a:rPr>
              <a:t>E.g. no female condo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Question indicat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22040">
              <a:lnSpc>
                <a:spcPct val="90000"/>
              </a:lnSpc>
              <a:spcBef>
                <a:spcPts val="499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Arial"/>
              </a:rPr>
              <a:t>E.g. contraceptive usage only for married wom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Examine default data valu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22040">
              <a:lnSpc>
                <a:spcPct val="90000"/>
              </a:lnSpc>
              <a:spcBef>
                <a:spcPts val="499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Arial"/>
              </a:rPr>
              <a:t>Do you agree with values describing situ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22040">
              <a:lnSpc>
                <a:spcPct val="90000"/>
              </a:lnSpc>
              <a:spcBef>
                <a:spcPts val="499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Arial"/>
              </a:rPr>
              <a:t>Do you agree with proposed staff remuneration levels e.g. doctors vs. nurs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Are some gender-related interventions miss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22040">
              <a:lnSpc>
                <a:spcPct val="90000"/>
              </a:lnSpc>
              <a:spcBef>
                <a:spcPts val="499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Arial"/>
              </a:rPr>
              <a:t>E.g. Should VAW interventions be include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86868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600" spc="-1" strike="noStrike">
                <a:solidFill>
                  <a:srgbClr val="ffffff"/>
                </a:solidFill>
                <a:latin typeface="Arial Narrow"/>
              </a:rPr>
              <a:t>SOME OPPORTUNITIES FOR GRB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048120" y="3025080"/>
            <a:ext cx="327636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0" bIns="0" anchor="ctr">
            <a:spAutoFit/>
          </a:bodyPr>
          <a:p>
            <a:pPr marL="122400" indent="-1224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Costing the MDG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86868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600" spc="-1" strike="noStrike">
                <a:solidFill>
                  <a:srgbClr val="ffffff"/>
                </a:solidFill>
                <a:latin typeface="Arial Narrow"/>
              </a:rPr>
              <a:t>REFERENCE TO RESOURCE PAC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5T23:02:16Z</dcterms:created>
  <dc:creator>Meli</dc:creator>
  <dc:description/>
  <dc:language>en-US</dc:language>
  <cp:lastModifiedBy>natalia  tomaszewska</cp:lastModifiedBy>
  <dcterms:modified xsi:type="dcterms:W3CDTF">2007-03-06T23:44:55Z</dcterms:modified>
  <cp:revision>21</cp:revision>
  <dc:subject/>
  <dc:title>PowerPoint Presentation</dc:title>
</cp:coreProperties>
</file>