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1632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0AD-10FF-496B-AEEF-5A21EE5CE575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NDER BUDGE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ATURE AND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659320"/>
            <a:ext cx="86868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ve ministries chosen as pilots for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ch ministry asked to identify 6 largest sub-programmes in money terms (excluding ‘management’ sub-program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statements for these 6 sub-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es standard headings of Rwanda budget, plus ‘gender dimension’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blished as annex to budget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ACKGROUND TO RWANDA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01400"/>
            <a:ext cx="86868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statements for last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ant to be all departments (= minis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ked to identify 4 categories of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utcomes &amp; outputs which specifically target women/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largest 3 sub-programmes (in money terms) &amp; implications for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utcomes &amp; outputs which will benefit women/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utcomes &amp; outputs which will benefit women employees of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ses standard headings plus ‘gender issu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cluded as part of main bud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ACKGROUND TO GAUTENG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2546640"/>
            <a:ext cx="69343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ane Elson’s six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lso referred to at oth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S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119320"/>
            <a:ext cx="86868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BS = </a:t>
            </a: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ummary accountability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ol to inform parliament &amp; civil society how the </a:t>
            </a: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is used to advance gende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ummary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ncourages people to rea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ccountability</a:t>
            </a:r>
            <a:r>
              <a:rPr b="0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ol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equality is usually one of government’s overall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o policy or programme will succeed without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gender budget statement is an ‘advertisement’ of what government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ing to advance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A GENDER BUDGET STAT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39320"/>
            <a:ext cx="86868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-responsive budget (GRB)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which embodies programmes which address gender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statement (G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hows how/whether government programme and budget addresses gender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 country can have a GRB but no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 country can have a GBS but not have a G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sons for drawing up a GBS: To move towards a more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GRB? WHAT IS GB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111400"/>
            <a:ext cx="868680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Potential benefi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lps identify gaps in government officials’ understanding of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lps government officials ‘see’ what the gender issu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lps government officials ‘see’ the gaps in policy &amp;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lows gender advocates to see what government is doing for gender without going through long complicate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ts publicity for GR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ang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perts’ rather than government officials produce the statement, with no learn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advocates ignore gender budge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uses gender budget statement as whitew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ASONS FOR INCLUDING GENDER BUDGET STATEMENT IN GRB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349360"/>
            <a:ext cx="830592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GB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ummary of gender-relevant information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in government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hat is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cce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us GBS will probably </a:t>
            </a:r>
            <a:r>
              <a:rPr b="1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ot cover all activities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government because otherwise it will be too long and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Questions to help choose what activities GBS should foc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Where is most money going? (because ‘mainstreaming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Which programmes are most important for gender equ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DOES THE GBS COV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089800"/>
            <a:ext cx="868680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Each country &amp; each level of government must decide on a format that meets </a:t>
            </a:r>
            <a:br>
              <a:rPr sz="2100"/>
            </a:b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its ne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Format should be standard across ministries &amp; departmen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sier for civil serv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sier for parliamentarians and civil serv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Styles can diffe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me statements (e.g. Morocco &amp; France) are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me countries (Australia, Rwanda, Gauteng) adopt matrix, table or similar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tandar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How to publish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parate document? Easily identifiable but perhaps ignored by main budget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tegrated in main budget? Gender advocates may mis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DOES GBS LOOK 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929600"/>
            <a:ext cx="868680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s work for government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sier to specify in call circula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re chance of institutio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s detail &amp; nu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ssible form</a:t>
            </a: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ilation of a set of sub-statements, each covering one (sub)programme 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f a Ministry/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ch sub-statement made up of set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tems based on country’s main budget format + addition of ‘gender issu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 MATRIX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147040"/>
            <a:ext cx="868680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(Sub-)Programme name: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Short and sim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ey gender issues &amp; challenges to be addressed:</a:t>
            </a:r>
            <a:r>
              <a:rPr b="0" lang="en-ZA" sz="19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escribes situation of women and men, girls and boys in respect of problems which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he sub-programme seeks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anned activities:</a:t>
            </a:r>
            <a:r>
              <a:rPr b="0" lang="en-ZA" sz="19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escribes what the sub-programme does &amp; how it will address gender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tates how much money is allocated to sub-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tors &amp; targ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what was delivered by sub-programme in previous period (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utputs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dicators of what was achieved (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utcomes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ts targets for outputs &amp; outcomes over budge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ll relevant indicators to be sex-dis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cludes indicators of gender issues raised under previous sub-hea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POSSIBLE ITEMS FOR A GBS: (BASED ON 5-STEP APPROA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505240"/>
            <a:ext cx="86868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cells established in 18 min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ch cell required to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locations targeted 100% at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locations where 30% or more benefits women = ‘women-specific’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blished on budge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lans to expand on this in futur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ACKGROUND TO INDIA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34:55Z</dcterms:created>
  <dc:creator>Meli</dc:creator>
  <dc:description/>
  <dc:language>en-US</dc:language>
  <cp:lastModifiedBy>natalia  tomaszewska</cp:lastModifiedBy>
  <dcterms:modified xsi:type="dcterms:W3CDTF">2007-03-06T23:12:19Z</dcterms:modified>
  <cp:revision>24</cp:revision>
  <dc:subject/>
  <dc:title>PowerPoint Presentation</dc:title>
</cp:coreProperties>
</file>