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3208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8718-13E1-4375-92F3-F4BA9521B9B6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32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SING G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45720"/>
            <a:ext cx="7816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45252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larify where and how can UNIFEM and UNFPA contribute to the countries’ move towards gender responsive budg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BJ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880" y="2127960"/>
            <a:ext cx="838188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Use GRB to create change in a selected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ol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hat kind of evidence do you need and which GRB tool would be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y Point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ational, local, general, general or sectoral, expenditure side or revenu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keholder Analysi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ho are the key actor/s, facilitator/s, initiator, advocate, technica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ategie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referred strategies and key activities (e.g. capacity building, advocacy, knowledge sharing, etc.) and for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ROGRAM DEVELOPMENT EXCERC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613680"/>
            <a:ext cx="891540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se 1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 a country that recently passed a law on domestic vio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se 2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 promote the increase of female condom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se 3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 address high maternal mortality in a specific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m 3 groups to formulate a program using a GRB perspective in the 3 cases below. Start out responding to the questions identified in the previous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21:27:00Z</dcterms:created>
  <dc:creator>Meli</dc:creator>
  <dc:description/>
  <dc:language>en-US</dc:language>
  <cp:lastModifiedBy>natalia  tomaszewska</cp:lastModifiedBy>
  <cp:lastPrinted>2007-03-06T18:29:17Z</cp:lastPrinted>
  <dcterms:modified xsi:type="dcterms:W3CDTF">2007-03-06T23:57:11Z</dcterms:modified>
  <cp:revision>17</cp:revision>
  <dc:subject/>
  <dc:title>PowerPoint Presentation</dc:title>
</cp:coreProperties>
</file>