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305920" y="632448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CDC7-1A26-4C3D-8487-F8E3FC8E7908}" type="slidenum">
              <a:rPr b="0" lang="en-US" sz="14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0" y="2895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WHAT IS A BUDG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3973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CLASSIFICATIONS &amp; FORMA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3137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THE STRUCTURE OF A REAL-LIFE BUDGET: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GAUTENG DEPARTMENT OF HEAL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2039760"/>
            <a:ext cx="8686800" cy="43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Strategic overview and key policy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1746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1746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1746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ore functions of the Depar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1746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olicy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1746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Legislative man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1746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Departmental strategic goals &amp;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Review of previous financial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Outlook for the coming financial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Receipts and fin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hen programme by programme analys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3137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THE STRUCTURE OF A REAL-LIFE BUDGET: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GAUTENG DEPARTMENT OF HEALTH 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2580840"/>
            <a:ext cx="7010280" cy="25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For each program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746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rogramme description (overall ai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746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rogramme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746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olicy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746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xpenditure figures for 7 years by sub-progra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746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Disaggregated economic figures for 7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746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Key outputs &amp; service delivery measures (including targe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3137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THE STRUCTURE OF A REAL-LIFE BUDGET: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PAKISTAN MINISTRY OF HEAL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966320"/>
            <a:ext cx="8686800" cy="44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articulars (bureaucratic detai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Mission/policy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746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10 points of National Health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Objectives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746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urrent measure &amp; targets for 5 years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Medium term allocations by policy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746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3 years, 8 of 10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Functional classification of expendi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746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9 categories, 3 years, current vs.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Object (economic) classification of expendi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746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10 ‘major’ categories, 3 years, current vs.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3137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THE STRUCTURE OF A REAL-LIFE BUDGET: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PAKISTAN MINISTRY OF HEALTH 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2193480"/>
            <a:ext cx="8686800" cy="34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ross-classification of object vs. functional 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for each of 3 years, separate for current &amp; development, different ‘names’ for functions compared to earlier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Key output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By current operations, then by (donor-funded) program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Detailed numbers for current expenditure, revenue account by 3 divisions, for 3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Functional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Obje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Detailed numbers first summarized by division, then broken down for each spending unit (administrative classifi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09480" y="3044160"/>
            <a:ext cx="8686800" cy="14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Budget formats can be complicated &amp; overwhel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B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Things become simpler when you know the format and convention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for the country you are working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CONCLU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362320" y="3246120"/>
            <a:ext cx="441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48: What do budgets look l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REFERENCE TO RESOURCE P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2868840"/>
            <a:ext cx="8001000" cy="20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 budget is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224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lan of what government intends to spend on differen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items/for different purposes in the coming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Some budget formats also tell 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224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Whether government kept to its plans for previous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224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What government plans to deliver or has delivered in non-monetary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WHAT IS A BUDG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2049840"/>
            <a:ext cx="8686800" cy="35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Different number &amp; types of publications across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Some possible compon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1112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Budget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1112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Budget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1112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Narrative on overall economic sit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1112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Narrative on policy &amp;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Some documents might not be tabled on budget day e.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1112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Medium term policy/budget framework BEFORE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1112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nnual agency reports on delivery AFTER budget year comp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ll documents have potential for assisting GRB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BUDGET DOCUMENTS ARE DIVER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736720"/>
            <a:ext cx="8686800" cy="18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Common ways of classifying expenditure in a budget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2240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Econo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2240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Administr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2240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2240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Progra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Often governments present the budget in more than on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COMMON CLASSIFICATIONS FOR NUMB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2182680"/>
            <a:ext cx="8686800" cy="38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2 main expenditure categor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Current = expenditures for services &amp; goods likely to last less than one year </a:t>
            </a:r>
            <a:br>
              <a:rPr sz="2000"/>
            </a:b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&amp; necessary to carry out government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74560" indent="103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salaries of government 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4560" indent="103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subsidies to firms, households &amp; individ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4560" indent="103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Expenditure on operations and 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Capital = expenditures for goods &amp; services to be used for longer than a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74560" indent="103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spending on technical assistance &amp;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4560" indent="103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spending on land, buildings, infrastructure, 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[Possible 3</a:t>
            </a:r>
            <a:r>
              <a:rPr b="0" i="1" lang="en-ZA" sz="2000" spc="-1" strike="noStrike" baseline="30000">
                <a:solidFill>
                  <a:srgbClr val="000000"/>
                </a:solidFill>
                <a:latin typeface="Arial Narrow"/>
                <a:ea typeface="宋体"/>
              </a:rPr>
              <a:t>rd</a:t>
            </a:r>
            <a:r>
              <a:rPr b="0" i="1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 category = transfers and subsi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74560" indent="103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Lump sum transfers to be spent by recipien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Object classification is more detailed economic 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ECONOMIC CLASS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2889720"/>
            <a:ext cx="6858000" cy="19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Expenditures classified under responsible a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6344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E.g. according to the Ministries or Depar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6344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E.g. according to hospitals &amp; cli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This classification usually used in combination </a:t>
            </a:r>
            <a:br>
              <a:rPr sz="2400"/>
            </a:b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with another clas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ADMINISTRATIVE CLASS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2401920"/>
            <a:ext cx="815328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Expenditure grouped according to function/ purpose for which </a:t>
            </a:r>
            <a:br>
              <a:rPr sz="2400"/>
            </a:b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it is sp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Some similarity between administrative &amp; functional classifications, </a:t>
            </a:r>
            <a:br>
              <a:rPr sz="2400"/>
            </a:b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but not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1592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E.g. Ministry of Defence may spend money on medical services for its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1400" indent="128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Functional classification =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1400" indent="128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Administrative classification = Min of Def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FUNCTIONAL CLASS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2353320"/>
            <a:ext cx="8686800" cy="31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Programme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set of activities that government undertakes to reach a 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Often used together with administrative classification i.e. each </a:t>
            </a:r>
            <a:br>
              <a:rPr sz="2400"/>
            </a:b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agency’s budget divided into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Sometimes programmes further divided into sub-programmes </a:t>
            </a:r>
            <a:br>
              <a:rPr sz="2400"/>
            </a:b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or projects, each with own 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Complication if government structure not arranged according </a:t>
            </a:r>
            <a:br>
              <a:rPr sz="2400"/>
            </a:b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to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PROGRAMME CLASS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3520" y="2197080"/>
            <a:ext cx="8686800" cy="39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In some countries budget is divided into 2 pa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634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Recurrent, operating or “revenue”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8440" indent="109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covers mainly operating exp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634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Development or investment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8440" indent="109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meant to cover longer-term expendi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8440" indent="109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Often used mainly to reflect donor part of budget &amp; required counterpart f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8440" indent="109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Includes operating expenses for ‘project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Split into operating &amp; development budget c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634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Hide implications of one budget for the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8440" indent="109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E.g. new clinic will need staff and med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634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Go hand-in-hand with split respon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8440" indent="109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Planning Commission for development budget &amp; Ministry of Finance for re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HOW MANY BUDGET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20:06:19Z</dcterms:created>
  <dc:creator>Meli</dc:creator>
  <dc:description/>
  <dc:language>en-US</dc:language>
  <cp:lastModifiedBy>Meli</cp:lastModifiedBy>
  <dcterms:modified xsi:type="dcterms:W3CDTF">2007-03-08T19:20:37Z</dcterms:modified>
  <cp:revision>29</cp:revision>
  <dc:subject/>
  <dc:title>PowerPoint Presentation</dc:title>
</cp:coreProperties>
</file>