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141-77B6-4242-9CC5-2B969A2B0A84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USANDO EL P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62840"/>
            <a:ext cx="781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larar dónde y cómo UNIFEM y FNUAP podrá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tribuir al avance de los países hacia presupuestos sensibles al gé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REGU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108880"/>
            <a:ext cx="83818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ÓSITO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Usar el PSG para crear cambios en un áre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¿Qué tipo de evidencia necesitarás y cuál herramienta de PSG sería út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NTOS DE ENTRADA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nacional, local, general / sectorial, gastos /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ACTORES/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quiénes son las/los actores centrales, facilitadores/as, iniciadores/as, defensoras/es, expertas/os téc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RATEGIAS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strategias preferidas y actividades fundamentales (por ejemplo, fortalecimiento de capacidades, incidencia, intercambio de conocimientos, etc.) y para qu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RCICIO EN DESARROLLO DEL PROGRA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694960"/>
            <a:ext cx="8915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Formar tres grupos para formular un programa utilizando una perspectiva de PSG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ara los siguientes tres casos. Comenzar respondiendo a las preguntas identificad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 la lámin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1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n un país que recientemente aprobó una ley para la violencia domé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2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promover un incremento en el uso del condón feme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so 3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abordar la alta mortalidad materna en una determin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Meli</cp:lastModifiedBy>
  <cp:lastPrinted>2007-03-06T18:29:17Z</cp:lastPrinted>
  <dcterms:modified xsi:type="dcterms:W3CDTF">2007-03-08T22:33:14Z</dcterms:modified>
  <cp:revision>19</cp:revision>
  <dc:subject/>
  <dc:title>PowerPoint Presentation</dc:title>
</cp:coreProperties>
</file>