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73AB-96CC-44A5-9121-AF4507A04B63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CLARACIONES SOBRE PRESUPUESTOS DE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ATURALEZA Y PROPÓ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2465640"/>
            <a:ext cx="868680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ligieron cinco ministerios para los pilotajes del 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cada ministerio se le pidió identificar sus seis mayores subprogramas en términos monetarios (excluyendo los subprogramas “administrativo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hicieron declaraciones de presupuesto de género para esto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is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n los encabezamientos normales del presupuesto de Rwanda, más la columna de la “dimensión de géne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blica como anexo a los documentos del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RW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20" y="2352600"/>
            <a:ext cx="8686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n tenido declaraciones del presupuesto de género ya cuatro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para todos los departamentos (=ministe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les pide identificar cuatro categoría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se orientan específicamente hacia las niñas y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tres subprogramas más grandes (en términos monetarios) y en implicaciones para la equi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beneficiarán a mujeres y ni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y productos que beneficiarán a las mujeres empleadas por 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a encabezamientos normales más el “tema de gé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incluye como parte del documento principal del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280584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677880" indent="-1094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seis herramientas de Diane 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mbién hay referencias a otros pu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S AL PAQUETE DE RECURSOS</a:t>
            </a:r>
            <a:r>
              <a:rPr b="1" lang="es-ES_tradnl" sz="26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837800"/>
            <a:ext cx="868680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resumida de rendición de cuentas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informar al parlamento y a la sociedad civil sobre cómo se usa el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para adelantar la igualdad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mida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¡eso invita a la gente a leerl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de rendición de cuentas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igualdad de género usualmente es uno de los objetivos general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inguna política ni programa tendrá éxito sin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de presupuesto de género es un “anuncio publicitario”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bre lo que el gobierno está haciendo para lograr el avance de la igualdad de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A DECLARACIÓN SOBRE EL PRESUPUESTO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0"/>
            <a:ext cx="8686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sensible al género (PSG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esupuesto que incorpora programas que abordan las desigualdades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resp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estra cómo el programa y presupuesto del gobierno abordan las desigualdades de género, si es que efectivamente lo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aís puede tener un PSG pero no un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11200" indent="-1173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aís puede tener una declaración pero no un PS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1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azones para hacer una declaración: para avanzar hacia un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EL PSG? ¿QUÉ ES LA DECLARA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1896120"/>
            <a:ext cx="868680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eneficios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identificar las brechas en el entendimiento del género entre l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arios/a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los funcionarios/as a “ver” cuáles son los temas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yuda a los funcionarios/as a “ver” las brechas en las políticas y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mite que las/los defensoras del género vean qué es lo que está haciendo el gobierno por el género sin tener que investigar en documentos largos y compl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 publicidad al trabajo de 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lig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documento puede ser producido por “expertos” en vez de funcionarios/as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obierno, y éstos no aprenden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/los defensoras del género ignoran la declaración del presupuesto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utiliza la declaración del presupuesto de género como pantalla par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dar bien sin hacer 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AZONES PARA INCLUIR UNA DECLARACIÓN SOBRE EL PRESUPUESTO DE GÉNERO EN EL TRABAJO DE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2218680"/>
            <a:ext cx="830556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resumen de la información pertinente al género en los presupuesto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es acce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lo tanto, la declaración probablemente no cubrirá todas las actividades del gobierno, porque si lo hiciera sería demasiad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rgo y comp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ayudar a escoger las actividades para el enfoque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decla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Adónde va la mayor cantidad de dinero? (por la transvers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Cuáles programas son más importantes para la igualdad de gén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NVERGADURA TIENE LA DECLARACIÓN SOBRE EL PRESUPUESTO 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1968120"/>
            <a:ext cx="8686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país y cada nivel del gobierno tendrá que decidirse sobre un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ato que satisfaga sus nece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formato debe ser uniforme entre los ministerios y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para las/los servidor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para parlamentarios y otros funcionarios/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los pueden ser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s declaraciones (por ejemplo, Marruecos y Francia) son nar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(Australia, Rwanda, Sudáfrica – provincia Gauteng) adoptan u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ato matricial, tabular o de alguna manera normalizado a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ómo publicar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ocumento por separado? Fácilmente identificable pero puede ser que l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más involucradas con el presupuesto no la v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Integrada en el presupuesto principal? Es posible que las/los defensoras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 no la v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APARIENCIA TIENE LA DECLARACIÓN SOBRE EL PRESUPUESTO DE GÉNE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1970640"/>
            <a:ext cx="86868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nta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nos trabajo para los funcionarios/a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fácil especificar las instrucciones en la circular presupues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posibilidades de instituc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venta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nos detalle y suti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bl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copilación de un conjunto de sub-declaraciones, cada una sobre un (sub)program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un ministerio / depa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sub-declaración se compone de puntos fi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onentes basados en el formato del presupuesto principal del país, más l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“temas del géne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N ENFOQUE MATRI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2020320"/>
            <a:ext cx="86868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mbre del (sub)programa: ¡corto y sencil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emas fundamentales del género y desafíos que deben aborda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e la situación de las mujeres y hombres, niñas y niños con relación a los problemas que el subprograma pretende abor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ividades plane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e lo que el subprograma hace y cómo abordará los asunto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ce cuánto dinero se asigna al sub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y prev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se logró con el subprograma en el período anterior (produc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de lo que se logró (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isiones para los productos y resultados durante este período presupues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s los indicadores del caso deben ser desagregados por se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4120">
              <a:lnSpc>
                <a:spcPct val="100000"/>
              </a:lnSpc>
              <a:spcBef>
                <a:spcPts val="400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indicadores de cuestiones de género planteados bajo los otros sub-encabez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SIBLES ELEMENTOS DE UNA DECLARACIÓN: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(EN BASE AL ENFOQUE DE 5 PAS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2490120"/>
            <a:ext cx="86868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stablecieron células de presupuesto de género en 18 minis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da célula debía identifi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signaciones orientadas en un 100% para las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signaciones en las cuales el 30% ó más beneficia a mujeres = programas “específicos para las muje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blica en el día de presentación del presupuesto al par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iensa ampliar esto en los años venid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 DE LOS ANTECEDENTES EN LA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Meli</cp:lastModifiedBy>
  <dcterms:modified xsi:type="dcterms:W3CDTF">2007-03-12T14:29:41Z</dcterms:modified>
  <cp:revision>39</cp:revision>
  <dc:subject/>
  <dc:title>PowerPoint Presentation</dc:title>
</cp:coreProperties>
</file>