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81880" y="6324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E0A8-4679-4264-B403-30611E93ADF9}" type="slidenum">
              <a:rPr b="0" lang="en-US" sz="1600" spc="-1" strike="noStrike">
                <a:solidFill>
                  <a:srgbClr val="f0813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TRANSFORMACIÓN DE PLANES Y POL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¿CÓMO PUEDEN AYUDAR LOS PS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7240" y="1531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EJEMPLOS DE INDICADORES EN LA PRESUPUESTACIÓN EN BASE AL DESEMPEÑO PARA EL DESARROLLO EN MATERIA DE POBLACIÓN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7280" y="1689120"/>
            <a:ext cx="8534520" cy="494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75080" y="19810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OBJETIVOS DE POLÍ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400" y="2819520"/>
            <a:ext cx="25902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dicadores de Insu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Arial Narrow"/>
              </a:rPr>
              <a:t>Presupuesto, equipos, puestos de </a:t>
            </a:r>
            <a:br>
              <a:rPr sz="1500"/>
            </a:br>
            <a:r>
              <a:rPr b="0" lang="es-ES_tradnl" sz="1500" spc="-1" strike="noStrike">
                <a:solidFill>
                  <a:srgbClr val="ffffff"/>
                </a:solidFill>
                <a:latin typeface="Arial Narrow"/>
              </a:rPr>
              <a:t>servicios,empleados/as, logística, </a:t>
            </a:r>
            <a:br>
              <a:rPr sz="1500"/>
            </a:br>
            <a:r>
              <a:rPr b="0" lang="es-ES_tradnl" sz="1500" spc="-1" strike="noStrike">
                <a:solidFill>
                  <a:srgbClr val="ffffff"/>
                </a:solidFill>
                <a:latin typeface="Arial Narrow"/>
              </a:rPr>
              <a:t>edificios,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74840" y="2895480"/>
            <a:ext cx="2660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dicadores de Proceso</a:t>
            </a:r>
            <a:br>
              <a:rPr sz="1600"/>
            </a:br>
            <a:r>
              <a:rPr b="0" lang="es-ES_tradnl" sz="1500" spc="-1" strike="noStrike">
                <a:solidFill>
                  <a:srgbClr val="ffffff"/>
                </a:solidFill>
                <a:latin typeface="Arial Narrow"/>
              </a:rPr>
              <a:t>Capacitación, desarrollo de RRHH, </a:t>
            </a:r>
            <a:br>
              <a:rPr sz="1500"/>
            </a:br>
            <a:r>
              <a:rPr b="0" lang="es-ES_tradnl" sz="1500" spc="-1" strike="noStrike">
                <a:solidFill>
                  <a:srgbClr val="ffffff"/>
                </a:solidFill>
                <a:latin typeface="Arial Narrow"/>
              </a:rPr>
              <a:t>monitoreo / supervis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024440"/>
            <a:ext cx="29718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dicadores de Productos</a:t>
            </a:r>
            <a:br>
              <a:rPr sz="1600"/>
            </a:br>
            <a:r>
              <a:rPr b="0" lang="es-ES_tradnl" sz="1500" spc="-1" strike="noStrike">
                <a:solidFill>
                  <a:srgbClr val="ffffff"/>
                </a:solidFill>
                <a:latin typeface="Arial Narrow"/>
              </a:rPr>
              <a:t>Desempeño, usuarias/os </a:t>
            </a:r>
            <a:br>
              <a:rPr sz="1500"/>
            </a:br>
            <a:r>
              <a:rPr b="0" lang="es-ES_tradnl" sz="1500" spc="-1" strike="noStrike">
                <a:solidFill>
                  <a:srgbClr val="ffffff"/>
                </a:solidFill>
                <a:latin typeface="Arial Narrow"/>
              </a:rPr>
              <a:t>de anticonceptivos, </a:t>
            </a:r>
            <a:br>
              <a:rPr sz="1500"/>
            </a:br>
            <a:r>
              <a:rPr b="0" lang="es-ES_tradnl" sz="1500" spc="-1" strike="noStrike">
                <a:solidFill>
                  <a:srgbClr val="ffffff"/>
                </a:solidFill>
                <a:latin typeface="Arial Narrow"/>
              </a:rPr>
              <a:t>años/pareja de prote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44600" y="5514840"/>
            <a:ext cx="34290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Indicadores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Índice de prevalencia del uso de anticonceptivos, Fertilidad total, Ritmo de crecimiento poblacio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2150640"/>
            <a:ext cx="86868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 examinar los formatos de los presupuestos, vemos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6480" indent="-122040">
              <a:lnSpc>
                <a:spcPct val="100000"/>
              </a:lnSpc>
              <a:spcBef>
                <a:spcPts val="499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presupuestos en base al desempeño tienen muchas diferentes for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6480" indent="-122040">
              <a:lnSpc>
                <a:spcPct val="100000"/>
              </a:lnSpc>
              <a:spcBef>
                <a:spcPts val="499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presupuestación en base al desempeño funciona mejor cuando se hag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n presupuestos organizados por progra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objetivos de presupuestación en base al desempeño deben vincularse con el plan general de desarrollo del gobi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6480" indent="-122040">
              <a:lnSpc>
                <a:spcPct val="100000"/>
              </a:lnSpc>
              <a:spcBef>
                <a:spcPts val="499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iniciativas de PSG necesitan tomar en cuenta el desarrollo más genera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la planificación y las polí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6480" indent="-122040">
              <a:lnSpc>
                <a:spcPct val="100000"/>
              </a:lnSpc>
              <a:spcBef>
                <a:spcPts val="499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iniciativas de PSG necesitan priorizar cuáles aspectos abordan, para n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r abrum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6480" indent="-122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LGUNAS IDEAS FI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2514240"/>
            <a:ext cx="8686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452520" indent="-17460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 50: Formulación de 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2520" indent="-17460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 58: Guía mexicana para formular los presupuestos en e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ctor de la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REFERENCIAS AL PAQUETE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1848600"/>
            <a:ext cx="8686800" cy="46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Investig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Usualmente fuera del gobierno, como base para la incidencia, pero también es posible que el gobierno haga investigación para dar los insumos a sus políticas y presu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Inciden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Usualmente fuera del gobierno, pero PUEDE ser dentro del gobierno y del par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onitore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9440">
              <a:lnSpc>
                <a:spcPct val="100000"/>
              </a:lnSpc>
              <a:spcBef>
                <a:spcPts val="400"/>
              </a:spcBef>
              <a:buClr>
                <a:srgbClr val="e68219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ol clave del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l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9440">
              <a:lnSpc>
                <a:spcPct val="100000"/>
              </a:lnSpc>
              <a:spcBef>
                <a:spcPts val="400"/>
              </a:spcBef>
              <a:buClr>
                <a:srgbClr val="e68219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gobierno 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be hacer monitoreo como parte de la función gere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9440">
              <a:lnSpc>
                <a:spcPct val="100000"/>
              </a:lnSpc>
              <a:spcBef>
                <a:spcPts val="400"/>
              </a:spcBef>
              <a:buClr>
                <a:srgbClr val="e68219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sociedad civil 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uede hacer monitoreo de la ejecución del presup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apacit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9440">
              <a:lnSpc>
                <a:spcPct val="100000"/>
              </a:lnSpc>
              <a:spcBef>
                <a:spcPts val="400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Para quiénes? ¿Por quiénes? ¿Para lograr qué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nscient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9440">
              <a:lnSpc>
                <a:spcPct val="100000"/>
              </a:lnSpc>
              <a:spcBef>
                <a:spcPts val="400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Para quiénes? ¿Por quiénes? ¿Para lograr qué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álisis y diseño de polí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09440">
              <a:lnSpc>
                <a:spcPct val="100000"/>
              </a:lnSpc>
              <a:spcBef>
                <a:spcPts val="400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Éste es el rol del gobierno, pero pueden participar otros actores/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313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ACTIVIDADES COMUNES DE PS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7240" y="658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5 PASOS PARA EL ANÁLISIS DE GÉNERO CON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OS PRESUPUES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763640"/>
            <a:ext cx="83818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cribir la 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ituación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mujeres y hombres, niñas y 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erificar si la 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lítica es sensible al género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(si aborda la situación descrita en el paso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erificar que 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asigne un presupuesto adecuado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ara ejecutar la política sensible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erificar si el 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sto se concreta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gún lo planif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xaminar el 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mpacto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la política y el gasto (si ha logrado efectivamente promover la equidad de gén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Buena parte de estos pasos son conocidos para la gente que trabaja con la transversalización del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valor agregado es la inclusión de preguntas relacionadas con el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ne énfasis en que la situación impulsa a la política que, a su vez, impuls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l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5 pasos pueden ser util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spcBef>
                <a:spcPts val="400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las personas fuera del gobierno para evaluar la acción del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spcBef>
                <a:spcPts val="400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r el gobierno para planificación, ejecución y monitoreo y evaluación (My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499840"/>
            <a:ext cx="8686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99960" indent="-17136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ejora la eficiencia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asegurando que los gastos beneficien a quiene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ás lo necesi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ejora el monitoreo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al saber a quiénes están llegando lo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rvicios gubern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Hace seguimiento a la ejecución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y reduce la corru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ejora la transparencia y rendición de cu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forma sobre el progreso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grado en los compromiso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acionales e internacionales en materia del gé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BENEFICIOS DEL TRABAJO CON PSG PARA EL GOBIER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92760" y="738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USOS DEL PSG PARA EL GOBIER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05120" y="208440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356400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PRESUPUESTO SENSIBLE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GÉ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6840" y="6259680"/>
            <a:ext cx="182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Manejar la Ejec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63880" y="175248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riori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55840" y="2525760"/>
            <a:ext cx="82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Evaluar 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3800" y="380988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Audi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21400" y="4952880"/>
            <a:ext cx="112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Monitore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Eval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64720" y="236232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romover 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igual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9120" y="384192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lanifi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92360" y="4889520"/>
            <a:ext cx="167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Utilizar el ple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otencial de los 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recursos hum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62040"/>
            <a:ext cx="7313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GUÍA MEXICANA PARA LA FORMULACIÓN DEL PRESUPUESTO EN EL SECTOR DE LA SAL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924200"/>
            <a:ext cx="868680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7760" indent="-1191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guía fue desarrollada como esfuerzo conjunto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Ministerio de Sal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 ONG’s – una de análisis presupuestario y una de derechos de la muj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inalidad: Ayudar a planificadores/as del gobierno a diseñar políticas y presupuestos sensibles al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troducción: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PSG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es cuestión de cuánto dinero se gaste en servicios para las muje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PSG se trata de asignar dinero para actividades que eliminen las barreras de género contra (principalmente) las mujeres y (en algunos casos) los hombres, en su acceso para los servicios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sal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is pasos para formular presupuestos sensibles al gén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agnóstico 1: Revisar el diagnóstico usando una perspectiva de igualdad de gé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agnóstico 2: Analizar las igualdades de gé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gramación 1: Determinar los componentes y 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ogramación 2: Determinar las prior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supuestación 1: Asignar recursos para abordar las desigualdades de gé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supuestación 2: Diseñar los indic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047680"/>
            <a:ext cx="86868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7760" indent="-1191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3 categorías coinciden con los tres primeros pasos del enfoque de 5 p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spcBef>
                <a:spcPts val="201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expresan más claramente como acciones que tienen que tomar las/los funcionarios gubernamentales al formular los presupue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guía pone énfasis en priorizar las estrategias / acciones que tengan el mayor impacto en la igualdad de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spcBef>
                <a:spcPts val="201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 se trata 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(usualmente) de cambiar completamente los programas exist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 trata de incorporar progresivamente los criterios de igualdad de género dentro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cada pa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reguntas para ayudar a incorporar el gén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spcBef>
                <a:spcPts val="201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En cuáles de los encabezamientos existentes pueden incluirse fondos para acciones hacia la igualdad de géne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En cuáles de los componentes existentes pueden incluirse nuevos encabezamientos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(o subprogramas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Es necesario asignar recursos para crear nuevos o mejores dat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126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¿Deben dedicarse recursos a grupos específicos para abordar sus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ecesidades específic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62040"/>
            <a:ext cx="7313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GUÍA MEXICANA PARA LA FORMULACIÓN DEL PRESUPUESTO EN EL SECTOR DE LA SAL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7280" y="2000880"/>
            <a:ext cx="868680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347760" indent="-11916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presupuestación en base al desempeño dice que el presupues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spcBef>
                <a:spcPts val="201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 sólo es cuestión de contabilidad financi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be alinear el </a:t>
            </a:r>
            <a:r>
              <a:rPr b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inero 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n las </a:t>
            </a:r>
            <a:r>
              <a:rPr b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líticas 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y con los </a:t>
            </a:r>
            <a:r>
              <a:rPr b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bjetivos generales 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l gobierno (incluyendo la igualdad de géner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circular presupuestaria en el sistema en base al desempeño usualmente d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spcBef>
                <a:spcPts val="201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organismos deben informar sobre su </a:t>
            </a:r>
            <a:r>
              <a:rPr b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misión, objetivos, cuestiones estratégicas, metas, niveles proyectados de desempeñ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 presupuestación en base al desempeño tiene el mismo marco como el enfoque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 5 p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spcBef>
                <a:spcPts val="201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ero el PSG agrega la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quidad 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 las tres Es tradicionales de Economía, Eficiencia y Efica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7760" indent="-119160">
              <a:lnSpc>
                <a:spcPct val="100000"/>
              </a:lnSpc>
              <a:spcBef>
                <a:spcPts val="675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corporar el género en los presupuestos en base al desempe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spcBef>
                <a:spcPts val="201"/>
              </a:spcBef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as cuestiones de género pueden reflejarse explícitamente o implícitamente e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los obje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género puede reflejarse explícitamente al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esagregar los objetivos e indica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buClr>
                <a:srgbClr val="f08138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l género puede reflejarse incluyendo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bjetivos e indicadores enfocados en cuestiones relacionadas con el género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(por ejemplo, la violencia contra las mujeres o fertilida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127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SG Y PRESUPUESTOS EN BASE AL DESEMPE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A PRESUPUESTACIÓN EN BASE AL DESEMPEÑO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LAS TRES E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39560" y="1981080"/>
            <a:ext cx="8212320" cy="4400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73080" y="1998720"/>
            <a:ext cx="129528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 Narrow"/>
              </a:rPr>
              <a:t>proporcionar atención para la salud que prevenga las enfermedades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60480" y="2146320"/>
            <a:ext cx="135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qui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955880"/>
            <a:ext cx="16761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xámenes de tamizaje para detecta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glaucoma (enfermedad ocula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106720"/>
            <a:ext cx="121932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reducción de la prevalencia de las enfermedades  ocul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236232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66600" y="410040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5760" y="4100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fi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7800" y="40971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fic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48640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osto del personal mé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4864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osto por examen de sel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5442120"/>
            <a:ext cx="152388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índices de detección de glaucoma en la población destina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3760" y="167652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objetivo de polí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3080" y="1676520"/>
            <a:ext cx="7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fo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98760" y="167652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69880" y="1676520"/>
            <a:ext cx="99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31200" y="167652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848720" y="1828440"/>
            <a:ext cx="75960" cy="152280"/>
          </a:xfrm>
          <a:prstGeom prst="line">
            <a:avLst/>
          </a:prstGeom>
          <a:ln w="9360">
            <a:solidFill>
              <a:srgbClr val="f0813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88800" y="15685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nutr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00" y="5638680"/>
            <a:ext cx="168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indicadores de desemp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5122800"/>
            <a:ext cx="190512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Figura 2.3 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La estructura básica de la aplicación de la presupuestación en base a los resultados y productos en un programa de salu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1:33:58Z</dcterms:created>
  <dc:creator>Meli</dc:creator>
  <dc:description/>
  <dc:language>en-US</dc:language>
  <cp:lastModifiedBy>Meli</cp:lastModifiedBy>
  <dcterms:modified xsi:type="dcterms:W3CDTF">2007-03-09T22:55:54Z</dcterms:modified>
  <cp:revision>84</cp:revision>
  <dc:subject/>
  <dc:title>PowerPoint Presentation</dc:title>
</cp:coreProperties>
</file>