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9680" y="632448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5861-C0DD-4858-8AEC-4CAB652D29E7}" type="slidenum">
              <a:rPr b="0" lang="en-US" sz="16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2895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HERRAMIENTAS PARA EL ANÁLISIS DE LOS PS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3973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 Narrow"/>
              </a:rPr>
              <a:t>INTRODUC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8600" y="2018160"/>
            <a:ext cx="8686800" cy="45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uestra el vínculo entre las asignaciones presupuestarias y cómo las y los miembros de la familia usan su tie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35120" indent="-1080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ejemplo, la electricidad versus la recolección de le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35120" indent="-1080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ejemplo, el agua potable al domicilio versus cargar agua de otro 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35120" indent="-1080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ejemplo, servicios de cuidado infantil versus quedarse en casa cuidando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 los niños/as sin tener ingre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35120" indent="-1080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ejemplo, transporte público versus tiempo usado para movilizarse de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otra mane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uede comparar el valor calculado para el trabajo de cuidado no remunerado con los montos presupuestar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35120" indent="-1080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ejemplo, el valor del trabajo de cuidado en el hogar versus el costo del personal en hospitales y guarde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uede hacer este análisis el gobierno o la sociedad civ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5844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ANÁLISIS DEL IMPACTO DEL PRESUPUESTO EN EL 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USO DEL TIEM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2254680"/>
            <a:ext cx="868680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safí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27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ara un análisis exacto y confiable, se requiere una encuesta de uso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l ti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27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Una encuesta grande de uso del tiempo es intensiva en recur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27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Usualmente una ONG no puede hacer una encuesta grande de uso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l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27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análisis de los datos del uso del tiempo requiere destrezas especi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rític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270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 feministas: la encuesta del uso del tiempo no nos dice nada que no sabíamos y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270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 anti-feministas: los roles de género están muy bien, tal como está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127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5844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ANÁLISIS DEL IMPACTO DEL PRESUPUESTO EN EL 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USO DEL TIEMPO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MARCO DE POLÍTICA ECONÓMICA A MEDIANO PLAZO CON CONCIENCIA DE GÉN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1926000"/>
            <a:ext cx="8686800" cy="46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os interpreta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4448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ar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4448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arco = múltiples añ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4448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 pueden usar las mismas herramientas como para un presupuesto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4448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oporciona indicaciones de las tendencias generales planificadas para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os próximos años, como por ejemplo el crecimiento / estancamiento de un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ctor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odelo = “agregar el géner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4448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sagregar las variables existentes, como por ejemplo en la fuerza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4448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gregar variables, como por ejemplo en el sector del trabajo de cuidado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o remune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ara que tenga impacto, es ideal que lo haga el gobier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2593440"/>
            <a:ext cx="6934320" cy="30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safí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sagregar la fuerza laboral es bastante sencillo; incluir el trabajo de cuidado no remunerado es más complic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ncluir el trabajo de cuidado no remunerado requiere datos sobre el uso del ti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ncorporar el género al modelo es tan sólo el primer pa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-119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ecesita analiza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-119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ecesita incidencia sobre las implicaciones para las polític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ay muy poca experiencia internacional con e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19160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250200" y="741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MARCO DE POLÍTICA ECONÓMICA A MEDIANO PLAZO CON CONCIENCIA DE GÉNERO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04920" y="2582640"/>
            <a:ext cx="8686800" cy="27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erramienta del gobierno para lograr transpa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be hacerse en forma regular (an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 hace el gobierno y la utilizan el parlamento y la sociedad ci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uede ser en forma de un discurso o en formato tabular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on indic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s más fácil si está en formato de presupuestación por programas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o en base al desemp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uede combinarse con algunas de las otras herramien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5844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DECLARACIÓN SOBRE EL PRESUPUESTO SENSIBLE 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AL GÉN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2435400"/>
            <a:ext cx="8686800" cy="30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safí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ecesita un organismo fuerte que imparte las instrucciones a las demás entidades,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ara asegurar que éstas cumpl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s/los funcionarios pueden carecer de las destrezas para el análisis de gén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 declaración puede ser publicitaria, contando tan sólo las buenas notic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parlamento y la sociedad civil necesitan leerla y comentarla, porque si no los funcionarios pierden interé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ay que decidir si incluirla en documentos convencionales (oculta) o en documentos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separado (que no la tomarán en cuenta la gente que lee el presupuesto en el transcurso de su trabaj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5844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DECLARACIÓN SOBRE EL PRESUPUESTO SENSIBLE 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AL GÉNERO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ANTECEDENTES: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TRES CATEGORÍAS DE RHONDA SHAR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752480"/>
            <a:ext cx="8077320" cy="50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45960" indent="-117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sarrolladas para uso en el Sur de Australia en los años 198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 usaron como base para las declaraciones anuales de los organismos sobre el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género en sus presupues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 usaron para informar sobre los presupuestos formulados y ejecutados, no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ara formular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Todo el presupuesto se divide en tres categorías, las que totalizan el 100%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l presupues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7800" indent="-1126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Gastos específicamente para muje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57160" indent="-117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signaciones para programas que se destinan explícitamente para mujeres y niñas, como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ejemplo un programa de salud femen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77800" indent="-1126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gualdad de oportunidades en la administración públ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57160" indent="-117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signaciones para funcionarios/as gubernamentales actuales o potenciales para promover una representación igual en cargos de decisión, pago y condiciones de servicio equitativos, por ejemplo, programas de acompañamiento y asesoría (mentoreo) a servidoras públic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77800" indent="-1126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Gastos genera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57160" indent="-117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Todas las demás asignaciones analizadas para su impacto de gén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USAR LAS TRES CATEGORÍAS DE SHAR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846440"/>
            <a:ext cx="8305920" cy="44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safí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41240" indent="-1666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¿Debería tratarse de “mujeres” o “género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41240" indent="-1666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 tendencia de enfocarse en la primera categoría porque es la más fáci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02564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 primera categoría es importante como discriminación positiva / acción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firmativa, P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02564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ay el peligro de enfocarse en las mig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02564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uede dar una imagen engañosa (por ejemplo, el gasto en Pakistán para centros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ducativos para mujer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741240" indent="-1666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lgunas personas interpretan la segunda categoría como el porcentaje de sueldos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y beneficios que se pagan a las muje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02564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s importante porque un gran porcentaje de los presupuestos va para suel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02564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uede ser importante en países con roles de género estrictos (por ejemplo médicas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y profesora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02564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ay el peligro de enfocar la atención en las/los funcionarios gubernamentales, que son personas relativamente privilegiadas, antes que en la gente pobre en las comunida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3276360"/>
            <a:ext cx="914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arcos y herrami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REFERENCIA AL PAQUETE DE RECURS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2354040"/>
            <a:ext cx="7696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65240" indent="-1652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Diane Elson fue encomendada por la Secretaría de la Mancomunidad Británica para desarrollar herramientas para PS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Se hizo en las etapas iniciales del desarrollo de los PS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Se desarrollaron en base a los enfoques existentes, adaptados para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el PS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El enfoque está en el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análisis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 antes que en el desarroll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del presupues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No es necesario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usar todas estas herramientas para toda iniciativa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en PS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No son las únicas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 herramientas disponi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HISTORIA DE LAS HERRAMIENTAS DE EL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2446200"/>
            <a:ext cx="8686800" cy="33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obablemente es la herramienta más comúnmente us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s conveniente usarla hacia el comienzo de la iniciativa de PS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9228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ara aprender cómo funcionan los presupue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9228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oporciona material para la capacitación y conscient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ncluye el análisis cualitativo y cuantit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 menudo lo utilizan los grupos de la sociedad ci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uede ser utilizado por el gobierno, por ejemplo para la CEDAW, o como en los casos de Marruecos y Francia para sus declaraciones sobre el presupuesto de gén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5844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DIAGNÓSTICO DE LA POLÍTICA CON CONCIENCIA 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DE GÉN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2539440"/>
            <a:ext cx="6705360" cy="29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análisis suele tomar un enfoque de cinco pas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92280" indent="-11772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nálisis de la situación del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92280" indent="-11772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nálisis de las políticas / programas dentro del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92280" indent="-11772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nálisis de las asignaciones presupuest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92280" indent="-11772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nálisis de la prestación de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92280" indent="-11772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nálisis de los resultados / impactos / cambios en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 sit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Otras herramientas no abarcan todas las etapas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5844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DIAGNÓSTICO DE LA POLÍTICA CON CONCIENCIA 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DE GÉNERO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5844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DIAGNÓSTICO DE LA POLÍTICA CON CONCIENCIA 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DE GÉNERO (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2176560"/>
            <a:ext cx="8305920" cy="35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safí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cceso a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6480" indent="-119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uede ser motivo de incidencia fu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06480" indent="-119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s alianzas con el gobierno mejoran el acc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ay pocas personas con experticia presupuestaria y sectorial y en gé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rí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8560" indent="-1188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enfoque de 5 pasos excluye algunos aspectos impor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6480" indent="-119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uestiones institucionales (como el proceso del presupuesto, quién formula el presupuesto y cómo lo hace, flexibilidad en la toma de decisiones, especialmente con el gobierno loc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06480" indent="-119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Rol de las reglas formas versus las redes informales en la toma de decis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DIAGNÓSTICO DE LAS/LOS BENEFICIAR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944720"/>
            <a:ext cx="8763120" cy="46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egunta a los beneficiarios/as de los servicios sobre su experi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9372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uede utilizarlo el gobierno o la sociedad civ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9372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uede hacerse en diferentes escal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7308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Una clínica de salud en particular, vers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7308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Un servicio en particular, vers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7308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Todo el sector, vers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7308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Toda la localidad, incluyendo todos los servic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uede usar diferentes métod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9372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ncuestas de opinión versus encuestas de actitud versus debate en grupo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versus entrev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iagnóstico de beneficiarios/as con conciencia de géner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9372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ntrevistar a beneficiarios y benefici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9372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eguntar sobre cuestiones relacionadas con el gén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DIAGNÓSTICO DE LAS/LOS BENEFICIARIOS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049480"/>
            <a:ext cx="8381880" cy="39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4596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safí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aptar los criterios de la gente con menos p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648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oblemas con analfabetis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0648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oblemas con el temor de la represa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cidir entre la calidad y la cant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648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uestionario corto con preguntas de respuestas sencillas para muchas perso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06480" indent="-120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nteracción abierta y detenida con pocas perso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s difícil cubrir más de un servicio a la ve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596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rític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 pierde la mitad de la realidad si sólo se escucha a las/los beneficiarios/as y no a la gente que no es usua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ero ¿cómo llegar a las personas que no son beneficiari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ANÁLISIS DE INCIDENCIA DE LOS GASTOS PÚBLICOS, DESAGREGADO POR SEX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2409840"/>
            <a:ext cx="8686800" cy="36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stima la distribución del presupuesto entre hombres y muje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9372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idiendo los costos unitarios de prestar un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9372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ultiplicando el costo unitario por el número de unidades prestadas a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ombres / muj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ejemplo, ¿cuántos gastos educativ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9372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¿Llegan a alumnos y alumnas a diferentes niveles de educ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9372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¿Llegan a alumnos y alumnas para diferentes grupos de ingres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uede usarse para estimar el impacto de género de recortes 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esupuestarios propue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Usualmente lo hacen actores no gubernamen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2204280"/>
            <a:ext cx="8686800" cy="37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9528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safí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9228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s difícil / imposible si no se puede desagregar por sexo el servicio prestado a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os individu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9228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pende de la disponibilidad de datos, por ejemplo encuestas de hogares con preguntas apropiadas y costos uni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9228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Requiere la capacidad de analizar conjuntos grandes de da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5280" indent="-166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rític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9228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sume que el costo unitario de prestación del servicio no difiere, por ejemplo entre urbano y ru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9228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sume que la calidad del servicio es similar entre los grup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92280" indent="-11916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 menos que se agreguen los ingresos u otro elemento, esta herramienta no nos dice más que la simple desagregación por sexo de los beneficiarios/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ANÁLISIS DE INCIDENCIA DE LOS GASTOS PÚBLICOS, DESAGREGADO POR SEXO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21:28:21Z</dcterms:created>
  <dc:creator>Meli</dc:creator>
  <dc:description/>
  <dc:language>en-US</dc:language>
  <cp:lastModifiedBy>Meli</cp:lastModifiedBy>
  <dcterms:modified xsi:type="dcterms:W3CDTF">2007-03-09T23:04:05Z</dcterms:modified>
  <cp:revision>76</cp:revision>
  <dc:subject/>
  <dc:title>PowerPoint Presentation</dc:title>
</cp:coreProperties>
</file>