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4564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6C7-9FB4-4106-A52E-5B888E8B3D8F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STO DE LOS OD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CON ENFOQUE EN DDHH Y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075400"/>
            <a:ext cx="8686800" cy="40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chos países ahora dicen que los ODM’s son su plan general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 decimos que los presupuestos deben seguir los planes, entonces los ODMs se hacen importantes para el trabajo de los PS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varios diferentes estimados de los costos mundiales para los O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estimados mundiales son útiles principalmente para informar a la ONU, donantes e IFIs de lo “adicional” que se requiere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países están desarrollando estimados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una señal de que se estén tomando en serio los O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ferentes enfoq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los ODM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objetiv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otras categor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OSTO DE LOS ODM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821240"/>
            <a:ext cx="86868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mplia variabilidad en los estim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forme Zedillo del Panel de Alto Nivel sobre el Financiamiento para el Desarrollo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: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$ 50 mil millones por año para alcanzar los objetivos para el 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anco Mundial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: Costo para donantes: US$ 35 – 76 mil millones por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tecedentes del PNUD para su Informe sobre el Desarrollo Humano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: Objetivo 1 = US$ 76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YFF del FNU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estimados del Banco Mundial son US$ 20-25 mil millones al año para los ODM’s relacionados con la salud, ver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lujos de recursos financieros internacionales en 2001 para ayuda relacionada con la población = US$ 2.500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estimados nacionales son más útiles para el PS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drían ser más exactos, por una mejor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drán usarse en los debates sobre el presupuest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STIMACIONES MUND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833840"/>
            <a:ext cx="8686800" cy="49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0 “modelos” con hojas electrónicas de cálculo y guías para el usuario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visión en modelos no es lo mismo que división en 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gua y sa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aludos cord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alud infa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alud materna y re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IH/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0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 del PSG de Marrue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Cómo se abordan las interacciones trans-sectoriales / de múltiples objetiv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ERRAMIENTAS PARA EL PROYECTO DEL MILEN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1863360"/>
            <a:ext cx="5791320" cy="48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de interve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0 en planificación fami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5 en cuidado prenatal y par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7 en complicaciones obstét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3 en otras condiciones mater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3 en neonatos/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5 en ITS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cada intervención, calcu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por caso prome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 de beneficiarias potencial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total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v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l, fármacos y demás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cu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de instalaciones, equipos y otros gastos gene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29360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ERRAMIENTA PARA LA SALUD MATERN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RE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922400"/>
            <a:ext cx="701028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usar el modelo, se necesitan 5 tipos de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demográ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90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número de mujeres en edad reprodu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epidemi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90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la incidencia de complicaciones del embarazo y de las ITS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Índices actuales de cobertura de varios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formación sobre los fármacos y suministros reque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atos de costos relacionados con el personal, los fármacos y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más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rchivos / documentos proporcio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por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sto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ase de datos para la herramienta del costeo con valores predeterminados (para 200 paí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90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Incluye la fuente y las suposici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ulario para captar datos para el “costo tot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spcBef>
                <a:spcPts val="20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uía del usuario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03360" indent="-119160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ERRAMIENTAS PARA LA SALUD MATERN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RE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OSTO POR SEPARADO DE LA IGUALDAD DE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752480"/>
            <a:ext cx="822960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a más allá del objetivo de género de los O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ye intervenciones específicas de género que se cubren en los diagnósticos de necesidades para otros “sector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palda la necesidad de tomar en cuenta el género en todos los obje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vé el diagnóstico de las necesidades de género sobre lo que se necesitará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hacer operativos las políticas de género (como los planes nacion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mite costear los elementos no cubiertos en los diagnósticos de necesidades par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tros sect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tende resaltar y respaldar las intervenciones de género, pero podría tener 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fecto contr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3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 se ve el género como algo “adicional” que se deja fuera cuando son limitados los re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foque mej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960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egurar que se incluyan las intervenciones de género como parte de los modelos generales para cada s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429280"/>
            <a:ext cx="8686800" cy="32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5960" indent="-117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estionar las estrategias pro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2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¿por qué no hay condones femenin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estionar los indicad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2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¿por qué el uso anticonceptivo sólo para mujeres casad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aminar los valores predeterminados para lo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2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stamos de acuerdo con los valores que describen la situ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stamos de acuerdo con los niveles propuestos para la remuneración d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sonal – por ejemplo, médicos/as versus enfermeros/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Faltan algunas intervenciones relacionadas con el gén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3320">
              <a:lnSpc>
                <a:spcPct val="100000"/>
              </a:lnSpc>
              <a:spcBef>
                <a:spcPts val="2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¿deberían incluirse intervenciones para la violencia contra las muje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LGUNAS OPORTUNIDADES PARA LOS P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8120" y="3246120"/>
            <a:ext cx="327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sto de los OD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 AL PAQUETE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02:16Z</dcterms:created>
  <dc:creator>Meli</dc:creator>
  <dc:description/>
  <dc:language>en-US</dc:language>
  <cp:lastModifiedBy>Meli</cp:lastModifiedBy>
  <dcterms:modified xsi:type="dcterms:W3CDTF">2007-03-12T14:43:21Z</dcterms:modified>
  <cp:revision>36</cp:revision>
  <dc:subject/>
  <dc:title>PowerPoint Presentation</dc:title>
</cp:coreProperties>
</file>