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01760" indent="-111240">
              <a:spcBef>
                <a:spcPts val="601"/>
              </a:spcBef>
              <a:buClr>
                <a:srgbClr val="e8942b"/>
              </a:buClr>
              <a:buSzPct val="90000"/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89040" indent="-11124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2960" indent="-109800"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 Narrow"/>
              <a:buChar char="»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298-B776-4A8D-8334-611490B8F714}" type="slidenum">
              <a:rPr b="0" lang="en-US" sz="1600" spc="-1" strike="noStrike">
                <a:solidFill>
                  <a:srgbClr val="eb742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19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S PRESUPUESTOS SENSIBLES AL GÉN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480" y="330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OBJETIVOS DEL TALLER Y “MAPA DE RUT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MANUAL DE CAPACITACIÓN Y PAQUETE DE RECURSOS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Arial Narrow"/>
              </a:rPr>
              <a:t>PSG Y SAUUD RE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78960"/>
            <a:ext cx="7816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Desarrollar un entendimiento de los PSG como herramienta técnica y para la inc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xposición a las experiencias de los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ortalecer las destrezas para la programación que apoyen el trabajo con los PSG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7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COMPONENTES DEL 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228400"/>
            <a:ext cx="838188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1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El Presupuesto con Enfoque de Género: conceptos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rincipios y pro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2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Los formatos y procesos de los 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3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Herramientas para el análisis presupuestario co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nfoque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4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Experiencias de iniciativas con presupuestos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género (IPG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ódulo 5: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 Iniciativas de presupuestos sensibles al género des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entro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poyo al trabajo de 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7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7680" cy="610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39960" y="457200"/>
            <a:ext cx="184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ANÁLISIS DE PRESUPUESTOS CON PERSPECTIVA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60760"/>
            <a:ext cx="1905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ANÁLISIS E IDENTIFICACIÓN DE LA INTERVENCIÓ REQUERI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5480" y="19940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UNTOS DE ENTRADA PARA LAS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9560" y="1797120"/>
            <a:ext cx="18288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INSTITU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MECANISMOS PARA PSG EN 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GOBIERNO Y/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Narrow"/>
              </a:rPr>
              <a:t>FUERA DE É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6320" y="358128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Comprender el proceso de planificación estratégica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y presupues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33320"/>
            <a:ext cx="2438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Comprender los formatos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presupuestos y las herramientas para análisis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presu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685800"/>
            <a:ext cx="2438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Herramientas, Datos,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redes, capac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378240"/>
            <a:ext cx="1539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Incidencia y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75240" y="548784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Capacidad de análisis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 Narrow"/>
              </a:rPr>
              <a:t>de gé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ÁREA DE LA BRECHA DE GÉ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4724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MBIO DE LA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24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Destrezas necesarias para el P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23:58Z</dcterms:created>
  <dc:creator>Meli</dc:creator>
  <dc:description/>
  <dc:language>en-US</dc:language>
  <cp:lastModifiedBy>Meli</cp:lastModifiedBy>
  <dcterms:modified xsi:type="dcterms:W3CDTF">2007-03-09T21:58:32Z</dcterms:modified>
  <cp:revision>11</cp:revision>
  <dc:subject/>
  <dc:title>PowerPoint Presentation</dc:title>
</cp:coreProperties>
</file>