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121960" y="640080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5C749-96A7-4463-9598-8DFE69B1A4E7}" type="slidenum">
              <a:rPr b="0" lang="en-US" sz="1600" spc="-1" strike="noStrike">
                <a:solidFill>
                  <a:srgbClr val="ff8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2895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COSTO FUERA DEL GOBIER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39732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 Narrow"/>
              </a:rPr>
              <a:t>TRES ESTUDIOS DE CA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2123640"/>
            <a:ext cx="7315200" cy="39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45960" indent="-109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e planifican tres estudios de caso para cada paí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92280" indent="-1098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ategoría A: administrado y financiado por el gobie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92280" indent="-1098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ategoría B: financiado (en parte) por el gobierno pero administrado por una entidad no gubernam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92280" indent="-1098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ategoría C: sin financiamiento ni administración por el gobier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09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92280" indent="-1098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Mozambique: no tiene ningún caso en la Categoría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92280" indent="-1098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Botswana: la Categoría C recibe subvenciones del gobier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09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Mozambique: Las ONG’s que trabajan con el VIH/SIDA hicieron la investig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92280" indent="-1098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Más opciones para usar los datos en la incide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CUIDADO EN EL HOGAR PARA EL VIH/SIDA (4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6320" y="2199600"/>
            <a:ext cx="8686800" cy="37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45960" indent="-117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l cuidado en el hogar y trabajos afines “subsidian” al gobier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as mujeres realizan trabajo sin pago o con pago insuficiente, que de otra manera el gobierno tendría que dar a alguien un sueldo completo para hacer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Valor mensual del cuidado hogareño = 270 Pula en Botswana, US$ 130 en Mozambique, Z$ 403.550 en Zimbabw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as subestimaciones son porque se usan como base las remuneraciones baj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reguntas para los presupuestos y las polític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¿Qué puede hacer el gobierno para aliviar la carga de este trabaj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¿Qué puede hacer el gobierno para reducir las desventajas impuestas por este trabajo en las personas que lo realiza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COSTO Y TRABAJO NO REMUNER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676520" y="3062520"/>
            <a:ext cx="60195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45960" indent="-117360">
              <a:lnSpc>
                <a:spcPct val="100000"/>
              </a:lnSpc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SG, salud reproductiva y trabajo de cuidado </a:t>
            </a:r>
            <a:br>
              <a:rPr sz="2000"/>
            </a:b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no remuner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79600" indent="-119160">
              <a:lnSpc>
                <a:spcPct val="100000"/>
              </a:lnSpc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studio de caso del cuidado en el ho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79600" indent="-119160">
              <a:lnSpc>
                <a:spcPct val="100000"/>
              </a:lnSpc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studio de caso del “Vaso de Lech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79600" indent="-119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REFERENCIAS CON EL PAQUETE DE RECURSO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6320" y="2187360"/>
            <a:ext cx="8686800" cy="34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45960" indent="-117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osto = estimar la cantidad de dinero requer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43040" indent="-1191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ara un determinado serv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43040" indent="-1191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ara ejecutar una determinada polí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ocos gobiernos determinan el costo total de sus políticas plane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43040" indent="-1191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Resultado 1: Grandes prome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43040" indent="-1191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Resultado 2: Presupuestos demasiado pequeños para una ejecución ef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as ONG’s pued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43040" indent="-1191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stimar el costo de servicios / políticas importantes para la igualdad de gén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43040" indent="-1191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omparar los costos calculados con las asignaciones presupuesta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43040" indent="-1191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Hacer incidencia por presupuestos mayores y mej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POR QUÉ LAS ONGS PODRÍAN REALIZAR LA ESTIMAC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2675880"/>
            <a:ext cx="739152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45960" indent="-117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jemplo de una polí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79600" indent="-1191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uidado obstétrico de emergencia en Méx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jemplo de legis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79600" indent="-1191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Órdenes de protección para la violencia contra mujeres en Sudá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jemplo de trabajo sin remuneración / con pago insufic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79600" indent="-1191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uidado en el hogar para VIH/SIDA en Botswana, Zimbabwe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y Mozamb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TRES EJEMPL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6320" y="2124360"/>
            <a:ext cx="8686800" cy="41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45960" indent="-117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l Proyecto de Fundar para abordar la Mortalidad Materna pretende reducir este índi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79600" indent="-119160">
              <a:lnSpc>
                <a:spcPct val="100000"/>
              </a:lnSpc>
              <a:spcBef>
                <a:spcPts val="400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Que es más alto entre las mujeres pobres, indígenas y rur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Investigación previa e incidenc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79600" indent="-119160">
              <a:lnSpc>
                <a:spcPct val="100000"/>
              </a:lnSpc>
              <a:spcBef>
                <a:spcPts val="400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levó a incrementos en los presupuestos para los programas de salud reproduc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579600" indent="-119160">
              <a:lnSpc>
                <a:spcPct val="100000"/>
              </a:lnSpc>
              <a:spcBef>
                <a:spcPts val="400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os presupuestos todavía son insuficientes en las áreas más afectad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os costos de prestar los cuidados obstétricos de emergencia se basaron en estimados 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79600" indent="-119160">
              <a:lnSpc>
                <a:spcPct val="100000"/>
              </a:lnSpc>
              <a:spcBef>
                <a:spcPts val="400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recios de fármacos y suminist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579600" indent="-119160">
              <a:lnSpc>
                <a:spcPct val="100000"/>
              </a:lnSpc>
              <a:spcBef>
                <a:spcPts val="400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Número de embarazos previstos e índices de nata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579600" indent="-119160">
              <a:lnSpc>
                <a:spcPct val="100000"/>
              </a:lnSpc>
              <a:spcBef>
                <a:spcPts val="400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roporción de complicaciones obstétr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Hallazg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79600" indent="-119160">
              <a:lnSpc>
                <a:spcPct val="100000"/>
              </a:lnSpc>
              <a:spcBef>
                <a:spcPts val="400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l costo de dar la atención obstétrica de emergencia todas las personas que la requieren es relativamente baj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579600" indent="-119160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CUIDADO OBSTÉTRICO DE EMERGENCIA EN MÉX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6320" y="2211120"/>
            <a:ext cx="8534160" cy="35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95280" indent="-166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1999: Nueva Ley mejorada para la Violencia Domés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95280" indent="-1666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Junio 1998: se organizó el Programa de Incidencia en Género (GA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esión de información para ONGs sobre cómo se asignan los presupuestos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el gobie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Taller donde las contrapartes acordaron que se necesitaba investigación sobre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uánto dinero se asigna para ejecutar la nueva L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95280" indent="-1666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a investigación descubrió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Que algún dinero fresco sí se asignó para capacitar a policías y funcionarios/as de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as cortes sobre la nueva Le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Que algún dinero se asignó para publicidad y conscientiz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Que buena parte del dinero fue proporcionada por dona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LEY DE VIOLENCIA DOMÉSTICA EN SUDÁFR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6320" y="2256840"/>
            <a:ext cx="8458200" cy="38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95280" indent="-166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2001: El Centro para el Estudio de la Violencia y la Reconciliación (CSVR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93720" indent="-1191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reguntó a policías cuánto asignaron para ejecutar el trabajo sobre la violencia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e gén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95280" indent="-1666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2005: El CSVR calculó cuánto se requería para ejecutar la Le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93720" indent="-1191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Hizo investigación en 9 distritos – urbanos y ru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93720" indent="-1191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reguntó a funcionarios/as de las cortes y destacamentos de policía cuánto tiempo dedicaban a un caso típ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93720" indent="-1191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Multiplicaron el tiempo dedicado a cada caso por el sueldo pertin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93720" indent="-1191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Multiplicaron el total del monto monetario por caso por el número estimado de casos en el paí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95280" indent="-1666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l gobierno va a trabajar más con el CSVR sobre las nor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95280" indent="-166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LEY DE VIOLENCIA DOMÉSTICA EN SUDÁFRICA (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2696760"/>
            <a:ext cx="7696080" cy="23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45960" indent="-117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nteced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92280" indent="-1335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Guía: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¿Por qué tiene que importarnos el trabajo de cuidado no remunera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73080" indent="-112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iseñada como base para investigación e incide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nfoque en el cuidado hogare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regunta de polític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92280" indent="-1335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ómo prestar cuidado en el hogar sin que represente una carta insoportable e injusta sobre actoras/es específ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CUIDADO EN EL HOGAR PARA EL VIH/SI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6320" y="2200680"/>
            <a:ext cx="8686800" cy="37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45960" indent="-117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nfoque de la investig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ostos en tiempo y din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specialmente los “costos” del trabajo sin pago o con pago insufi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ostos pa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Gobie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Organiz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ersonas que prestan los cuidados en proyectos de cuidado hogare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ersonas que prestan los cuidados en los hogares afec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efinir un proyecto de cuidados en el hog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roporciona visitas a los hogares que contienen a un apersona que vida con el S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os servicios incluyen cuidados personales, quehaceres domésticos, cocinar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CUIDADO EN EL HOGAR PARA EL VIH/SIDA (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76320" y="2157480"/>
            <a:ext cx="8686800" cy="31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45960" indent="-117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Herramientas múlti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Herramienta 1: Para el director/a del proyecto de cuidado en el hog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Herramienta 2: Para la persona responsable del cuidado en el hogar en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a organ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Herramienta 3: 5 x visitantes a hogares. Incluye un dia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Herramienta 4: 2 x hogares beneficiarios por cada visita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Herramienta 5: lineamientos para grupos focales (sólo se usa en Zimbabw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Herramienta 6: datos para estimar el valor del trabajo del cuidado hogare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Herramienta 7: antecedentes sobre el paí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CUIDADO EN EL HOGAR PARA EL VIH/SIDA (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23:29:11Z</dcterms:created>
  <dc:creator>Meli</dc:creator>
  <dc:description/>
  <dc:language>en-US</dc:language>
  <cp:lastModifiedBy>Meli</cp:lastModifiedBy>
  <dcterms:modified xsi:type="dcterms:W3CDTF">2007-03-09T23:08:50Z</dcterms:modified>
  <cp:revision>32</cp:revision>
  <dc:subject/>
  <dc:title>PowerPoint Presentation</dc:title>
</cp:coreProperties>
</file>