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324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D6A0-266E-4049-B4ED-4CC6F091B074}" type="slidenum">
              <a:rPr b="0" lang="en-US" sz="14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QUÉ ES UN PRESUPU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LASIFICACIONES Y FOR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VIDA REAL: DEPARTAMENTO DE SALUD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PROVINCIA DE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5748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orizonte estratégico y áreas centrales de pol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i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unciones centrales del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rrollo de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ndato legisl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1268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y metas estratégicos del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visión del año financiero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rada hacia delante para el siguiente añ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ntos recibidos y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tonces, análisis programa por progra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714400"/>
            <a:ext cx="70102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cada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pción del programa (propósito gen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de las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ifras de gastos para siete años, por sub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ifras económicas desagregadas, para siet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ductos principales y medidas de los servicios prestados (incluyendo las previs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VIDA REAL: DEPARTAMENTO DE SALUD DE LA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PROVINCIA DE GAUTENG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VIDA REAL: EL MINISTERIO DE SALUD DE PAKIST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209320"/>
            <a:ext cx="8686800" cy="38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pectos particulares (detalles particul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ulación de la misión /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puntos de la Política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ormulación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didas actuales y previsiones para cinco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signaciones a mediano plazo por objetivos de la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años, 8 de 1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funcional de los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9 categorías, 3 años, corriente versus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por objetos (económica) de los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0 categorías “principales”, 3 años, corriente versus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2232000"/>
            <a:ext cx="86868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cruzada de la clasificación por objetos versus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cada uno de los 3 años, separados entre corrientes y de desarrollo, con diferentes “nombres” para las funciones a comparación del cuadr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dicadores fundamentales de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operaciones corrientes y luego por programas (financiados por don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s detallados para los gastos corrientes, la cuenta de ingresos por 3 divisiones para 3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por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números detallados se resumen primero por divisiones, luego se desglosan para cada unidad de gasto (clasificación administr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A ESTRUCTURA DE UN PRESUPUESTO DE LA VIDA REAL: EL MINISTERIO DE SALUD DE PAKISTÁN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100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formatos de los presupuestos pueden ser complicad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abrum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6280" indent="-16200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simplifican las cosas cuando se conoce el formato y las convencione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el país en el cual se está trabaj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26844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 48: ¿Cómo se ven los presu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REFERENCIA AL PAQUETE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669760"/>
            <a:ext cx="80010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 presupuesto es 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60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lan de lo que el gobierno piensa gastar en diferentes rubros / para diferentes fines durante el año venid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formatos de presupuesto también nos dic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60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 el gobierno cumplió con sus planes en los año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60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Qué piensa entregar o ya entregó el gobierno en término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¿QUÉ ES UN PRESUPU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LOS DOCUMENTOS PRESUPUESTARIOS SON DIVE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ferentes números y tipos de publicaciones de un país a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componentes posi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scurso sobre 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úmeros d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rrativa sobre la situación económica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rrativa sobre las políticas y pres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os documentos pueden no presentarse junto a la pro forma presupuestaria que se plantea al parlamento,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arco para políticas / presupuestos a mediano plazo (ANTES del presupue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56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es anuales de los organismos del gobierno sobres sus prestaciones (DESPUÉS de terminar el año del presupue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odos los documentos tienen algún potencial para ayudar con el trabajo del PS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646720"/>
            <a:ext cx="8686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maneras comunes de clasificar los egresos en u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dminist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uchos gobiernos presentan su presupuesto en más de una fo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ONES COMUNES PARA LOS 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ECONÓM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30320"/>
            <a:ext cx="815328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7760" indent="-119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 principales categorías de gas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094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rrientes = gastos para servicios y bienes que probablemente durarán menos de un año y que son necesarios para realizar las operaciones d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eldos de empleados/as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bsidios a empresas, hogares e indivi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n operaciones y 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09440">
              <a:lnSpc>
                <a:spcPct val="100000"/>
              </a:lnSpc>
              <a:spcBef>
                <a:spcPts val="675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capital = gastos para bienes y servicios que se usarán durante má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n asistencia técnica y capac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en terrenos, edificios, infraestructura, equ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09440">
              <a:lnSpc>
                <a:spcPct val="100000"/>
              </a:lnSpc>
              <a:spcBef>
                <a:spcPts val="675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sible tercera categoría = transferencias y subsi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6400" indent="-10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ransferencias en montos únicos para que la entidad beneficiaria se encargu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os g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clasificación por objetos es una clasificación económica más detall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876400"/>
            <a:ext cx="731520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clasificados bajo el organismo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7720" indent="-109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según ministerios o depa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7720" indent="-109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según los hospitales y clí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sta clasificación usualmente se emplea en combinación con otra clas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ADMINIST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FUN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68520"/>
            <a:ext cx="670572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s agrupados según la función / propósito qu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motiv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guna similitud entre las clasificaciones administrativa y funcional, pero no son ig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3200" indent="-1080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el Ministerio de Defensa puede gastar diner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 servicios médicos para su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05040" indent="-11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funcional =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5040" indent="-11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lasificación administrativa = Ministerio de Def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599920"/>
            <a:ext cx="868680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a =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4640" indent="-10944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junto de actividades que el gobierno realiza para alcanzar un objetiv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ele utilizarse conjuntamente con la clasificación administrativa (el presupuesto de cada organismo se divide en prog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veces los programas se dividen, a su vez, en subprogramas 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yectos, cada uno con su propio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complica cuando la estructura del gobierno no se organiza segú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CLASIFICACIÓN PROGRA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¿CUÁNTOS PRESUPUES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828800"/>
            <a:ext cx="914400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99960" indent="-166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n algunos países, se divide el presupuesto en dos 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esupuesto recurrente, operativo, o “de ingres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ubre principalmente los gastos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resupuesto de desarrollo o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destina a cubrir los gastos a más 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uele utilizarse principalmente para reflejar la parte donante del presupuesto y el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inanciamiento requerido de contra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luye los gastos operativos para los “proyectos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66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división entre presupuestos operativo y de desarrollo 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cultar las implicaciones de un presupuesto para el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jemplo, la nueva clínica necesitará personal y medic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108000">
              <a:lnSpc>
                <a:spcPct val="100000"/>
              </a:lnSpc>
              <a:spcBef>
                <a:spcPts val="624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mplica dividir las respons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11268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Comisión de Planificación estará a mando del presupuesto de desarrollo y el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nisterio de Finanzas para el presupuesto recurrente.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06:19Z</dcterms:created>
  <dc:creator>Meli</dc:creator>
  <dc:description/>
  <dc:language>en-US</dc:language>
  <cp:lastModifiedBy>Meli</cp:lastModifiedBy>
  <dcterms:modified xsi:type="dcterms:W3CDTF">2007-03-09T23:03:56Z</dcterms:modified>
  <cp:revision>58</cp:revision>
  <dc:subject/>
  <dc:title>PowerPoint Presentation</dc:title>
</cp:coreProperties>
</file>