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045640" y="640080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17EB2-AA31-43DE-8209-A91FD1B32AE7}" type="slidenum">
              <a:rPr b="0" lang="en-US" sz="1600" spc="-1" strike="noStrike">
                <a:solidFill>
                  <a:srgbClr val="ff8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28954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  <a:ea typeface="Arial"/>
              </a:rPr>
              <a:t>ESTIMATION DU  COÛT DES OM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397320"/>
            <a:ext cx="91440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 Narrow"/>
                <a:ea typeface="Arial"/>
              </a:rPr>
              <a:t>CENTRÉE SUR LA SANTÉ EN MATIÈRE DE </a:t>
            </a:r>
            <a:br>
              <a:rPr sz="2600"/>
            </a:br>
            <a:r>
              <a:rPr b="0" lang="fr-FR" sz="2600" spc="-1" strike="noStrike">
                <a:solidFill>
                  <a:srgbClr val="ffffff"/>
                </a:solidFill>
                <a:latin typeface="Arial Narrow"/>
                <a:ea typeface="Arial"/>
              </a:rPr>
              <a:t>REPRODUCTION &amp; LE GEN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3520" y="1782360"/>
            <a:ext cx="8686800" cy="44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52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Beaucoup de pays affirment que les OMD constituent leur plan de développement glob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12680">
              <a:lnSpc>
                <a:spcPct val="80000"/>
              </a:lnSpc>
              <a:spcBef>
                <a:spcPts val="751"/>
              </a:spcBef>
              <a:buClr>
                <a:srgbClr val="ff8000"/>
              </a:buClr>
              <a:buFont typeface="Times"/>
              <a:buChar char="•"/>
              <a:tabLst>
                <a:tab algn="l" pos="52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Si nous disons que le budget doit suivre le plan, les OMD deviennent importants pour la BS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52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Il existe plusieurs estimations différentes du coût global des OMD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12680">
              <a:lnSpc>
                <a:spcPct val="80000"/>
              </a:lnSpc>
              <a:spcBef>
                <a:spcPts val="751"/>
              </a:spcBef>
              <a:buClr>
                <a:srgbClr val="ff8000"/>
              </a:buClr>
              <a:buFont typeface="Times"/>
              <a:buChar char="•"/>
              <a:tabLst>
                <a:tab algn="l" pos="52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Les estimations globales sont principalement utiles pour informer les NU, donneurs et IFI des besoins « additionnels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52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Certains pays développent des estimations nat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12680">
              <a:lnSpc>
                <a:spcPct val="80000"/>
              </a:lnSpc>
              <a:spcBef>
                <a:spcPts val="751"/>
              </a:spcBef>
              <a:buClr>
                <a:srgbClr val="ff8000"/>
              </a:buClr>
              <a:buFont typeface="Times"/>
              <a:buChar char="•"/>
              <a:tabLst>
                <a:tab algn="l" pos="52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Ce peut être un signe que les OMDs sont pris au série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52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Différentes approche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12680">
              <a:lnSpc>
                <a:spcPct val="80000"/>
              </a:lnSpc>
              <a:spcBef>
                <a:spcPts val="751"/>
              </a:spcBef>
              <a:buClr>
                <a:srgbClr val="ff8000"/>
              </a:buClr>
              <a:buFont typeface="Times"/>
              <a:buChar char="•"/>
              <a:tabLst>
                <a:tab algn="l" pos="52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Pour les OMD comme un t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12680">
              <a:lnSpc>
                <a:spcPct val="80000"/>
              </a:lnSpc>
              <a:spcBef>
                <a:spcPts val="751"/>
              </a:spcBef>
              <a:buClr>
                <a:srgbClr val="ff8000"/>
              </a:buClr>
              <a:buFont typeface="Times"/>
              <a:buChar char="•"/>
              <a:tabLst>
                <a:tab algn="l" pos="52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Pour des buts spécif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12680">
              <a:lnSpc>
                <a:spcPct val="80000"/>
              </a:lnSpc>
              <a:spcBef>
                <a:spcPts val="751"/>
              </a:spcBef>
              <a:buClr>
                <a:srgbClr val="ff8000"/>
              </a:buClr>
              <a:buFont typeface="Times"/>
              <a:buChar char="•"/>
              <a:tabLst>
                <a:tab algn="l" pos="52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Pour d'autres catégoris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126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52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ESTIMATION DU COÛT DES OM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1888920"/>
            <a:ext cx="8686800" cy="43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Grande variation dans les estimation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11268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Rapport Zedillo du Panel de Haut Niveau sur le FFD 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: 50 milliards de $/an pour atteindre les OMD en 2 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11268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Banque Mondiale 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: Coût aux donneurs = 35 - 76 milliars US$/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11268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Document de reference UNDP HDR:</a:t>
            </a:r>
            <a:r>
              <a:rPr b="0" lang="en-GB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 Objectif 1 = 76 milliards US$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11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MYFF de l'UNFPA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11268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La Banque Mondiale estime 20-25 milliards US$/an pour les MDG liés à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la santé </a:t>
            </a:r>
            <a:r>
              <a:rPr b="0" i="1" lang="fr-FR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v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11268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les flux de ressources financières internationales pour l'assistance liée à la population = 2,5 milliards US$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112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Estimations nationales sont plus utiles pour la BS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11268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Pourraient être plus précises parce basées sur des données plus concrè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11268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Peuvent être utilisées dans les discussions à propos du budget  na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ESTIMATIONS GLOB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3520" y="1696680"/>
            <a:ext cx="8686800" cy="54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10 "modèles«  d’évaluation des besoins avec tableaux de désagrégation et modes d'emplo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La division en modèles ne correspond pas à la division en objectif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Gen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Eau &amp; assainiss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Fa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San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Santé de l'enf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Santé maternelle &amp; en matière de re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VIH/S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Paludis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Tubercul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Critique provenant de la BSG du Maroc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Comment tenir compte des interactions transversales entre les objectif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 Narrow"/>
              </a:rPr>
              <a:t>OUTILS DU PROJET DU MILLÉNAI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447920" y="1756440"/>
            <a:ext cx="6781680" cy="48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Etablissement du prix de revient des interventions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12680">
              <a:lnSpc>
                <a:spcPct val="80000"/>
              </a:lnSpc>
              <a:spcBef>
                <a:spcPts val="788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10 pour la planification famili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12680">
              <a:lnSpc>
                <a:spcPct val="80000"/>
              </a:lnSpc>
              <a:spcBef>
                <a:spcPts val="788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5 pour les soins prénataux et l'accouch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12680">
              <a:lnSpc>
                <a:spcPct val="80000"/>
              </a:lnSpc>
              <a:spcBef>
                <a:spcPts val="788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7 pour les complications obstétrica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12680">
              <a:lnSpc>
                <a:spcPct val="80000"/>
              </a:lnSpc>
              <a:spcBef>
                <a:spcPts val="788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3 pour les autres conditions maternel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12680">
              <a:lnSpc>
                <a:spcPct val="80000"/>
              </a:lnSpc>
              <a:spcBef>
                <a:spcPts val="788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3 pour les nouveaux-n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12680">
              <a:lnSpc>
                <a:spcPct val="80000"/>
              </a:lnSpc>
              <a:spcBef>
                <a:spcPts val="788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5 pour les 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Calcul pour chaque intervention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12680">
              <a:lnSpc>
                <a:spcPct val="80000"/>
              </a:lnSpc>
              <a:spcBef>
                <a:spcPts val="788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coût par cas moy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12680">
              <a:lnSpc>
                <a:spcPct val="80000"/>
              </a:lnSpc>
              <a:spcBef>
                <a:spcPts val="788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nombre de bénéficiaires potentiels par 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12680">
              <a:lnSpc>
                <a:spcPct val="80000"/>
              </a:lnSpc>
              <a:spcBef>
                <a:spcPts val="788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coût annuel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Fournit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12680">
              <a:lnSpc>
                <a:spcPct val="80000"/>
              </a:lnSpc>
              <a:spcBef>
                <a:spcPts val="788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personnel, médicaments &amp; autres fourni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Ne </a:t>
            </a:r>
            <a:r>
              <a:rPr b="1" i="1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couvre</a:t>
            </a:r>
            <a:r>
              <a:rPr b="1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 pa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12680">
              <a:lnSpc>
                <a:spcPct val="80000"/>
              </a:lnSpc>
              <a:spcBef>
                <a:spcPts val="788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coût des installations, équipement &amp; autres frais génér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6868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OUTIL SUR LA SANTÉ MATERNELLE ET LA SANTÉ 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EN MATIERE DE REP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219320" y="1813320"/>
            <a:ext cx="7010280" cy="44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Pour utiliser le modèle, il faut 5 types de donnée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5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Données démograph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9040" indent="-114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Narrow"/>
                <a:ea typeface="Arial"/>
              </a:rPr>
              <a:t>par ex. nombre de femmes en âge d'avoir des enf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00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"/>
              </a:rPr>
              <a:t>Données épidémiolog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89040" indent="-114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Narrow"/>
                <a:ea typeface="Arial"/>
              </a:rPr>
              <a:t>par ex. incidence des complications de grossesse et 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5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Taux de couverture courants pour différents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5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Informations requises pour les médicaments et fourni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00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Narrow"/>
                <a:ea typeface="Arial"/>
              </a:rPr>
              <a:t>Données sur les prix de revient pour le personnel, les médicaments &amp; autres fourni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5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Dossiers/documents fourni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5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Coût par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5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Coût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00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Narrow"/>
                <a:ea typeface="Arial"/>
              </a:rPr>
              <a:t>Données d'outils d’estimation des coûts par défaut (pour 200 pay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89040" indent="-114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Narrow"/>
                <a:ea typeface="Arial"/>
              </a:rPr>
              <a:t>(y compris la source &amp; les hypothè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5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Formulaire de recueil des données pour le "coût total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5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Mode d'empl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6868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OUTIL SUR LA SANTÉ MATERNELLE ET LA SANTÉ 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EN MATIERE DE REP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920" y="1639080"/>
            <a:ext cx="86868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Pos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5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Va au-delà de l’objectif sur le gen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5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comporte les interventions spécifiques au genre couvertes dans les évaluations des besoins pour les autres "secteurs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9040" indent="-114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Narrow"/>
                <a:ea typeface="Arial"/>
              </a:rPr>
              <a:t>Supporte les besoins pour "engendrer" tous les objecti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89040" indent="-114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Narrow"/>
                <a:ea typeface="Arial"/>
              </a:rPr>
              <a:t>Prévoit pour les évaluations de besoins en genre ce qui est nécessaire pour établir des politiques genre (comme des plans nationaux) opérationnel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89040" indent="-114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Narrow"/>
                <a:ea typeface="Arial"/>
              </a:rPr>
              <a:t>Permet d’estimer les éléments non couverts par les évaluations des besoins pour d'autres secte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89040" indent="-114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Nég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5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Prévue pour souligner &amp; encourager les interventions genre mais pourrait avoir un effet oppos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9040" indent="-114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Narrow"/>
                <a:ea typeface="Arial"/>
              </a:rPr>
              <a:t>Genre vu comme "extra" &amp; ignoré si ressources limité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89040" indent="-114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Meilleure approche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5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S'assurer que les interventions de genre sont incluses dans les  modèles des secteurs tradition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 Narrow"/>
              </a:rPr>
              <a:t>ESTIMATION SÉPARÉE DE L'ÉGALITÉ DE GEN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1718280"/>
            <a:ext cx="8686800" cy="50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 Narrow"/>
                <a:ea typeface="Arial"/>
              </a:rPr>
              <a:t>Questionner les stratégies proposées 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Par ex. pourquoi pas de préservatifs fémin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 Narrow"/>
                <a:ea typeface="Arial"/>
              </a:rPr>
              <a:t>Questionner les indicateurs 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Par ex. usage de la contraception pour les femmes mariées uniqu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Arial Narrow"/>
                <a:ea typeface="Arial"/>
              </a:rPr>
              <a:t>Examiner les valeurs des données par défaut 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Etes-vous d'accord avec les valeurs décrivant la situation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Etes-vous d'accord avec les niveaux proposés pour la rémunération du personnel par ex. médecins vs infirmièr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Arial Narrow"/>
                <a:ea typeface="Arial"/>
              </a:rPr>
              <a:t>Manque-t-il certaines interventions liées au genre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Par ex. Les interventions sur la violence envers les femmes devraient-elles être inclus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 Narrow"/>
              </a:rPr>
              <a:t>QUELQUES OPPORTUNITÉS POUR LA BS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819520" y="3200040"/>
            <a:ext cx="3962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  <a:ea typeface="Arial"/>
              </a:rPr>
              <a:t>Evaluer le co</a:t>
            </a: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û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  <a:ea typeface="Arial"/>
              </a:rPr>
              <a:t>t des  OM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 Narrow"/>
              </a:rPr>
              <a:t>RÉFÉRENCE DU GUIDE PRATIQ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5T23:02:16Z</dcterms:created>
  <dc:creator>Meli</dc:creator>
  <dc:description/>
  <dc:language>en-US</dc:language>
  <cp:lastModifiedBy>natalia  tomaszewska</cp:lastModifiedBy>
  <dcterms:modified xsi:type="dcterms:W3CDTF">2007-03-08T21:31:56Z</dcterms:modified>
  <cp:revision>23</cp:revision>
  <dc:subject/>
  <dc:title>PowerPoint Presentation</dc:title>
</cp:coreProperties>
</file>