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2196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E946-AFCE-4D96-AFDB-B3863369645C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406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STIMATION DU CO</a:t>
            </a:r>
            <a:r>
              <a:rPr b="1" lang="fr-FR" sz="2800" spc="-1" strike="noStrike">
                <a:solidFill>
                  <a:srgbClr val="ffffff"/>
                </a:solidFill>
                <a:latin typeface="Arial Narrow"/>
                <a:ea typeface="Arial"/>
              </a:rPr>
              <a:t>Û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T DES OMD EN DEHOR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DU GOUVER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TROIS ÉTUDES DE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1795680"/>
            <a:ext cx="73152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3 études de cas planifiées par pay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atégorie A : gérées par le gouvernement &amp; financées par le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atégorie B : (partiellement) financées par le gouvernement mais non gérées par le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atégorie C : ni financées ni gérées par le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ozambique : Aucune dans la catégorie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otswana : La catégorie c reçoit des subventions du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ozambique : Les ONG VIH/SIDA ont réalisé la recher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lus de chances d‘être utilisée pour les activités de plaido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SOINS À DOMICILE POUR LE VIH/SIDA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2077200"/>
            <a:ext cx="86868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ins à domicile &amp; travail similaire "subventionnent" le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s femmes font un travail non rémunéré/sous-payé que le gouvernement devrait autrement fournir et entièrement payer p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ût mensuel des soins à domicile = 270 Pula au Botswana, 130 US$ au Mozambique, 403 550 Z$  au Zimbabw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us-estimations car travail sous pay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udget &amp; question de politiqu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Que peut faire le gouvernement pour alléger la charge de travail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Que peut faire le gouvernement pour réduire les désavantages imposés par ce travail sur ceux qui le fo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658800"/>
            <a:ext cx="8686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EVALUATION DES COÛTS &amp; TRAVAIL DE SOINS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NON RÉMUNÉ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2688840"/>
            <a:ext cx="60195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SG, santé en matière de reproduction et travaux de soins non pay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tude de cas de soins à domic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tude de cas du verre de la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RÉFÉRENCE DU GUIDE PRATI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865880"/>
            <a:ext cx="8686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stimation= Evaluation de la somme nécess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ur un servic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ur implémenter une politique particul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eu de gouvernements font une estimation complète des politiques planif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 1 : Grandes prom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 2 : Les budgets qui sont trop petits pour une implémentation effic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s ONG peuv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stimer les services/politiques importants pour l'égalité des gen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parer les estimations faites aux allocations budgét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laidoyer pour des budgets plus importants et meil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POURQUOI LES ONG DOIVENT FAIRE UNE EST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66680"/>
            <a:ext cx="7391520" cy="42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emple de poli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oins obstétriques d'urgence au Me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emple de lé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rdres de protection contre la violence envers les femmes en Afrique du S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emple d'un travail non payé ou sous-pay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oins à domicile pour le VIH/SIDA au Botswana, au Zimbabwe &amp; au Mozamb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  <a:ea typeface="Arial"/>
              </a:rPr>
              <a:t>TROIS EXE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109600"/>
            <a:ext cx="868680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e Projet de Mortalité Maternelle de Fundar vise à résoudre le problème du taux élevé de mortalité marternel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Taux plus élevé chez les femmes pauvres, indigènes &amp; r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cherche &amp; plaidoyer précéde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enés pour des augmentations de budget pour les programmes de santé en matière de 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dgets encore trop faibles pour les zones les plus affec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ûts des accouchements EmOC basés sur des estimations d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ix des médicaments &amp; fourni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Nombre de grossesses prévues et taux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oportion des complications obstétr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ésultat 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Le coût de fourniture d'EmOC à toutes celles qui en ont besoin est relativement fa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SOINS OBSTÉTRIQUES D'URGENCE AU MEX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2154240"/>
            <a:ext cx="853452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999 : Acte amélioré contre la violence dome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Juin 1998 : Programme de plaidoyer des genres (PG)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'information organisées pour les ONG à propos de la façon dont les budgets sont allo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teliers de travail pendant lesquels les partenaires étaient d'accord sur la nécessité d'une recherche pour connaître la somme nécessaire à l'implémentation du nouvel A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 de la recher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Une nouvelle somme fut allouée pour former les officiers de police et les gouverneurs sur le nouvel A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Une certaine somme fut allouée pour la publicité et la sensib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majeure partie de la somme était fournie par les don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609480"/>
            <a:ext cx="8686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ACTE CONTRE LA VIOLENCE DOMESTIQUE EN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AFRIQUE DU S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772280"/>
            <a:ext cx="845820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1 : Centre d'Etude de Violence &amp; Réconcili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terrogeait les officiers de police pour connaître la somme allouée pour l'implémentation la loi sur la violence basée sur le gen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5 : Le CSVR calculait la somme nécessaire à l'implémentation de l'Ac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 fait des recherches dans 9 districts - urbains et ru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terrogeait les officiers des tribunaux &amp; des commissariats de police pour connaître le temps passé sur un cas ty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ultipliait le temps passé par le salaire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ultipliait le montant total pour un seul cas par le nombre estimé de cas dans le 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 gouvernement doit encore travailler avec le CSVR sur les règlements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658800"/>
            <a:ext cx="8686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ACTE CONTRE LA VIOLENCE DOMESTIQUE EN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AFRIQUE DU SUD </a:t>
            </a: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976400"/>
            <a:ext cx="769644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Ré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f</a:t>
            </a: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é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Guide Pratique: </a:t>
            </a:r>
            <a:r>
              <a:rPr b="0" i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ourquoi devons-nous nous intéresser au travail de soins non rémunérés ?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04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révu comme base pour la recherche et le plaido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04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Focus sur les soins 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à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 domic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Question de politiqu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04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Comment fournir des soins 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à</a:t>
            </a:r>
            <a:r>
              <a:rPr b="0" i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 domicile sans mettre une charge de travail insupportable et injuste sur des acteurs particuli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SOINS À DOMICILE POUR LE VIH/S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712880"/>
            <a:ext cx="868680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ocus de la recherch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ût en temps et en ar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n particulier le "coût" du travail non rémunéré et sous-pay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ût pour 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rganis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ignants dans les projets de soins à domic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ignants dans les foyers affec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éfinition d'un projet de soins </a:t>
            </a: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à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domici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cure des visites à domicile dans les foyers comptant une personne atteinte du S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s services comportent les soins personnels, les travaux ménagers, la cuisin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SOINS À DOMICILE POUR LE VIH/SIDA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046240"/>
            <a:ext cx="868680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lusieurs outi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1 : Pour le directeur d'un projet S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2 : Pour la personne responsable de la tâche SAD dans l'organ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3 : 5 visiteurs à domicile. Inclut un agen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4 : 2 foyers bénéficiaires pour chaque visit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5 : Principes directeurs pour chaque groupe (utilisés seulement au Zimbabw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6 : Données pour estimer la valeur des soins à domic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7 : Informations générales sur le p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SOINS À DOMICILE POUR LE VIH/SIDA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29:11Z</dcterms:created>
  <dc:creator>Meli</dc:creator>
  <dc:description/>
  <dc:language>en-US</dc:language>
  <cp:lastModifiedBy>natalia  tomaszewska</cp:lastModifiedBy>
  <dcterms:modified xsi:type="dcterms:W3CDTF">2007-03-08T21:54:37Z</dcterms:modified>
  <cp:revision>23</cp:revision>
  <dc:subject/>
  <dc:title>PowerPoint Presentation</dc:title>
</cp:coreProperties>
</file>