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4696-52B5-4AD7-BD6C-6ABBA322283D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COMPETENCES NECESSAIRES POUR LA B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BUDGÉTISATION SENSIBLE AU GENRE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330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Objectifs de l’atelier et feuille d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137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PRATIQUE ET MANUEL DE FORMATIO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sur BSG et santé en matière de reproduction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347560"/>
            <a:ext cx="7816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évelopper une compréhension de la BSG comme un outil de plaidoyer politique et un outil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xposition à l’expérience d’autres p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évelopper des compétences pour une programmation qui encourage le travail de BSG au niveau nation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 Narrow"/>
              </a:rPr>
              <a:t>               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175840"/>
            <a:ext cx="838224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1 : Budgétisation sensible au genre : concepts, principes et objectif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2 : Formats et processus budgétair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3 : Outils pour l’analyse genre des budge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4 : Initiatives de Budgétisation Sensible au Genre (IB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5 : Initiatives de Budgétisation Sensible au Genre émanant du gouvernement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</a:rPr>
              <a:t>Supporter le travail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78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POSANTES DE L'ATE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0520" y="468360"/>
            <a:ext cx="8561520" cy="591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30002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PROBLÈME DE GENR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6160" y="44578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ANALYSE &amp; IDENTIFICATION DEL'INTERVENTION NECESS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92320" y="227484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S D'ENTRE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ARTENARI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6541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DES BUDGETS DU POINT DE VUE DU GEN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04480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Narrow"/>
              </a:rPr>
              <a:t>INSTITUER DES MECANISMES POUR LA BSG DANS ET/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Narrow"/>
              </a:rPr>
              <a:t>EN DEHORS DU GOUVER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51400" y="47530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HANGEMENT DE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751200"/>
            <a:ext cx="2438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Compréhension de la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planification stratégique e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 du processus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084320"/>
            <a:ext cx="2438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Compréhension des formats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de budget et des outil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 d'analyse du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15040" y="914400"/>
            <a:ext cx="243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utils, Donn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s,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aux, capaci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3657600"/>
            <a:ext cx="2438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laidoyer et particip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562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pacités d'analyse du gen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26:47Z</dcterms:created>
  <dc:creator>Meli</dc:creator>
  <dc:description/>
  <dc:language>en-US</dc:language>
  <cp:lastModifiedBy>natalia  tomaszewska</cp:lastModifiedBy>
  <dcterms:modified xsi:type="dcterms:W3CDTF">2007-03-07T22:51:09Z</dcterms:modified>
  <cp:revision>32</cp:revision>
  <dc:subject/>
  <dc:title>PowerPoint Presentation</dc:title>
</cp:coreProperties>
</file>