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1632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34BA-5F8E-4C09-87E1-BFC145B8DBA7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RAPPORTS GEN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NATURE ET OB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997280"/>
            <a:ext cx="868680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inq ministères choisis comme pilotes pour la B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l était demandé à chaque ministère d'identifier les 6 plus grands sous-programmes en termes monétaires (excluant les sous-programmes sur le "management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apport Genre pour ces 6 sous-program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1088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Utilise les rubriques standards du budget du Rwanda, plus la colonne "dimension genre 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1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ubliés comme annexes au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HISTORIQUE DE L'EXEMPLE DU RWA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2016360"/>
            <a:ext cx="868680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apport Genre pour les 4 dernières ann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çu pour être tous les départements ministéri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emande d'identifier 4 catégories de dépe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s &amp; Produits qui ciblaient spécifiquement les femmes/fil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s 3 plus grands sous-programmes (en termes monétaires) &amp; implications pour l'égalité des gen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s &amp; Produits qui bénéficiaient aux femmes/fil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s &amp; Produits qui bénéficiaient aux femmes employées par le Dépar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Utilise des rubriques standards auxquelles on ajoute le "problème genr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clus comme faisant partie du document du budget princi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HISTORIQUE DE L'EXEMPLE DE GAUTE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52480" y="2546640"/>
            <a:ext cx="693432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ane Elson’s six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lso referred to at oth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RÉFÉRENCE DU GUIDE PRA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800360"/>
            <a:ext cx="8686800" cy="44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apport Genre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= outil sommaire 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e responsabilité 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ur informer le parlement &amp; la société civile sur la façon dont le </a:t>
            </a:r>
            <a:r>
              <a:rPr b="1" i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udge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est utilisé pour avancer dans l'égalité des gen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ésumé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rce qu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ela encourage les gens à le lire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de 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esponsabilité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rce qu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'égalité des genres est généralement l'un des objectifs globaux du 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udget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rce qu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aucune politique ou programme ne réussira sans arg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 Rapport Genre est une "publicité" de ce que fait le gouvernement pour avancer dans l'égalité des gen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QU'EST-CE QU'UN RAPPORT GENR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815840"/>
            <a:ext cx="8686800" cy="44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udgétisation Sensible au Genre (BSG)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udget qui exprime les programmes qui cherchent à corriger les inégalités de gen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apport Genre (R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ontre comment/si le programme du gouvernement et le budget abordent les inégalités de gen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on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Un pays peut avoir une BSG mais pas de Rapport Gen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Un pays peut avoir un Rapport Genre mais ne pas avoir de B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aisons pour formuler un Rapport Genre : Aller vers une meilleure BSG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'EST-CE QUE LA BSG ? QU'EST-CE QUE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LE RAPPORT GENR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69920"/>
            <a:ext cx="86868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Bénéfices potentiels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ide à identifier les brèches dans la compréhension du genre par les fonc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ide les fonctionnaires à "voir" ce que sont les problèmes de gen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ide les fonctionnaires à "voir" les brèches dans la politique &amp; les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ermet aux défenseurs du genre de voir ce que fait le gouvernement pour le genre sans devoir consulter de longs documents compliqu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pporte de la publicité au travail de B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Dangers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s "experts" plutôt que des fonctionnaires produisent le Rapport Genre, sans formation pour les fonc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 défenseurs du genre ignorent le Rapport Gen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 gouvernement utilise le Rapport Genre comme camouf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RAISONS POUR INCLURE LE RAPPORT GENRE DANS LE TRAVAIL DE B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924200"/>
            <a:ext cx="83059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 Rapport Genre est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un </a:t>
            </a:r>
            <a:r>
              <a:rPr b="0" i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ésumé des informations pertinentes pour le genre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dans les budgets gouvernementa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Un document qui est 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acces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r conséquent le Rapport Genre ne </a:t>
            </a:r>
            <a:r>
              <a:rPr b="1" i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uvrira probablement pas toutes les activités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du gouvernement car autrement ce serait trop long et compliqu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Questions pour aider à choisir sur quelles activités le Rapport Genre devrait se concentr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ù va la plus grande partie de l'argent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Quels programmes sont les plus importants pour l'égalité des genre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E RECOUVRE LE RAPPORT GENR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777680"/>
            <a:ext cx="8686800" cy="45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haque pays &amp; chaque niveau de gouvernement doit décider d'un format qui réponde à s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 format doit être standard pour les ministères &amp; le dépar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lus facile pour les fonc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lus facile pour les parlementaires et les fonc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 styles peuvent être différen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ertains Rapports Genre (par ex. au Maroc &amp; en France) sont narra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ertains pays (Australie, Rwanda, Gauteng) adoptent une matrice, un tableau ou une forme standard simi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ment le publi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ocument séparé ? Facilement identifiable mais peut être ignoré par les principaux acteurs du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tégré au budget principal ? Les défenseurs des genres peuvent ne pas le vo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A QUOI RESSEMBLE LE RAPPORT GEN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736640"/>
            <a:ext cx="868680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Avantag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oins de travail pour les fonctionna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lus facile à spécifier dans les instructions de lettre circula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lus de chances d‘ institution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convénient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oins de détails &amp; nu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Forme possib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mpilation d'un ensemble de sous-rapports, chacun couvrant un (sous)programme d'un Ministère/Dépar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haque sous-rapport comprenant plusieurs élém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Eléments basés sur le format du budget principal du pays + addition des "problèmes de genr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UNE APPROCHE DE MATR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887480"/>
            <a:ext cx="86868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om du (sous-)Programm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: Court et simpl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blèmes de genre et challenges à résoudr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écrit la situation des femmes et des hommes, des filles et des garçons par rapport aux problèmes que le sous-programme cherche à rég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ctivités planifiée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écrit ce que fait le sous-programme &amp; comment il réglera les problèmes de gen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éclare la somme allouée au sous-program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teurs &amp; cible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e qui a été délivré par le sous-programme dans la période précédente (produ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teurs de ce qui a été atteint (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établit des cibles pour les produits &amp; résultats sur la période budgé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us les indicateurs pertinents doivent être désagrégés selon le s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clut les indicateurs des problèmes de genre soulevés sous les rubriques précé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351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ELÉMENTS POSSIBLES POUR UN RAPPORT GENRE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(BASÉE SUR UNE APPROCHE EN 5 ÉTAP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15080"/>
            <a:ext cx="868680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ellules de budget genre établies dans 18 ministè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haque cellule doit identifier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s allocations ciblant les femmes à 10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s allocations dont 30 % ou plus profitent aux femmes = programmes "spécifiques aux femme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ublié le jour du vote du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Envisage d’étendre cette approche dans les années à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ve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HISTORIQUE DE L'EXEMPLE DE L'IN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34:55Z</dcterms:created>
  <dc:creator>Meli</dc:creator>
  <dc:description/>
  <dc:language>en-US</dc:language>
  <cp:lastModifiedBy>natalia  tomaszewska</cp:lastModifiedBy>
  <dcterms:modified xsi:type="dcterms:W3CDTF">2007-03-08T22:56:13Z</dcterms:modified>
  <cp:revision>26</cp:revision>
  <dc:subject/>
  <dc:title>PowerPoint Presentation</dc:title>
</cp:coreProperties>
</file>