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4900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A21B-98C4-4C5A-977D-EC5C4CEE52F5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L EXISTE PLUS DE POSSIBILITÉS DISPONIBLE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QUE VOUS NE LE PENSE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854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DONNÉES REQUISES POUR LA B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33840"/>
            <a:ext cx="868680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ctivités supplémentaires pour poser les fondations de l'intégration du travail de soins non rémunéré dans le modèle macroéconom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teliers de travail pour expliquer l'importance de cette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cherche dans 2 districts sur le temps passé par les membres de la famille 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oigner les personnes atteintes du VIH/S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éunions avec le Bureau National des Statistiques (NBS) &amp; proposition d'apporter un support pour collecter des fonds et une expertise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laidoyer &amp; sensibilisation auprès des décideurs en matière budgé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-&gt; NBS accepta de faire l'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-&gt; Le Gouvernement accepta de financer l’enquê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-&gt; L'UNICEF apporta une petite somme pour le support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tude sur l'utilisation du temps en cours sur le terrain tout au long de l'année comme ajout aux enquêtes sur la main d’œuv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GNP offre un support technique &amp; et réfléchit à la façon d’utiliser l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PLAIDOYER D’UNE ONG TANZANIENNE  SUR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’UTILISATION DU TEMPS </a:t>
            </a: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19080"/>
            <a:ext cx="868680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ravailler avec les agences de statistiques du gouvernement pour recueillir des données plus précises sur le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r ex. Les ONG du Pakistan financées par l'UNFPA pour aider au recensement d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ne ONG a procédé à une formation sur le genre pour les agents recenseurs afin qu'ils puissent reconnaître le travail "invisible" accompli par les fe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ne ONG a mis en place 120 organisations de base pour mener des réunions au niveau du district afin d’attirer l’attention sur la contribution des fe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oulever les problèmes si les indicateurs sont bia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r ex. Prévalence du taux de contraception basée uniquement sur les femmes mari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r ex. enquêtes qui ne couvrent pas toutes les zones/ personnes (par ex. décisions informelles ou travailleurs migr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UTRES POSSIBILITÉS POUR LES 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76720" y="3093840"/>
            <a:ext cx="243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es Statist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1890720"/>
            <a:ext cx="769608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es données désagrégées selon le sexe distinguent les hommes des femmes par e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Nombre d'hommes et de femmes stérilis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Nombre d'hommes médecins et de femmes médec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nnées sensibles au genre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nnées désagrégées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onnées sur des problèmes qui sont importants à partir d'une perspective genre par e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onnées sur la mortalité mater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onnées sur la violence contre les fe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Nous avons besoin des deux types de données pour la 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DONNÉES DÉSAGRÉGÉES SELON LE SEXE VERSUS DONNÉES SENSIBLES AU GEN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718280"/>
            <a:ext cx="86868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'analyse genre du budget est souvent rendue difficile par le manque de données désagrégé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s de désagrégation homme/fem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s de désagrégation des allocations en fonction des dépenses pertin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pas de ligne budgétaire séparée pour la police qui s’occupe des questions de violence domes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ne peut pas distinguer entre les patients traités pour des problèmes liés au VIH et les patients traités pour d’ autres problè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e manque de désagrégation des chiffres du budget ne rend pas l'analyse genre im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n peut utiliser des approxim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le nombre d’interdictions de VAW trait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nombre de personnes testées pour le VIH ou recevant des AR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DÉSAGRÉGATION DES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418840"/>
            <a:ext cx="83232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La budgétisation basée sur la performance utilise 3 types d'indicateurs en relation avec les "activités" du gouvernemen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es entrée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reflètent ce qui est acheté avec les allocations budgétaires afin de pouvoir entreprendre de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es produits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reflètent ce qui est "délivré" par le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es effet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reflètent les « résultats" de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Certains pays ont aussi des indicateurs de "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processu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INDICATEURS DE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5200" y="1838520"/>
            <a:ext cx="868680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 indicateur fournit des "indications" sur la situation, non pas une image compl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= système d'alerte pour les domaines o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'autres investigations sont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équen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our les entrées et produits, on a besoin de données sur une base ann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our les résultats on peut avoir des données moins régul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ux principales sources de donn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dministratives – émanant du gouvernement dans la conduite régulière de ses aff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onnes pour la BSG car directement liées à des services particu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nsement et enquê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ons pour l'analyse situationnelle ou pour les résultats car ils reflètent la population ent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ais il peut y avoir des contradictions entre les données administratives &amp; les données d'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l faut donc comparer pour tester la fi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’EST-CE QU’UN "INDICATEUR"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800360"/>
            <a:ext cx="731520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dministrativ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Système d'Information de Gestion de la Santé (&amp; aut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Visites de services de santé/registres d'in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censement de la population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Généralement tous les 10 ans, donc pas très utile pour les budgets annu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nquê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quête sur la mesure des niveaux de vi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s démographiques &amp; sur la san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s sur la main d'oeuv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 de groupes à indicateurs multiples (UNICE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s sur l'utilisation du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RINCIPALES SOURCES DE DONN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924560"/>
            <a:ext cx="868680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lainte fréquente dans les initiatives de BSG (et autres initiatives d’intégration du genre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Il n'y pas ou il y’a peu de données liées au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Le manque de statistiques sur le genre ne doit pas empêcher de faire le travail. Le travail sur la BSG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eut donner l’impulsion pour plus et de meilleures données sensibles au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eut stimuler des enquêtes/investigations u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Mieux, peut conduire à la création/amélioration de systèmes administratifs institutionnalis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E FAIRE SI IL N'Y A PAS DE DONNÉES DISPONIBLE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047680"/>
            <a:ext cx="86868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aire de la recherche à petite éch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tiliser les résultats jusqu'à ce que le gouvernement ait des  résultats à plus grande échelle qui contredisent les vô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émontrer qu’il est possible de recueillir des données sur de nouveaux probl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alyser les données ex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ésagréger les données par sexe lorsque l'analyse standard ne le fait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gnaler les questions/problèmes manqu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ignaler les questions mal rédi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ignaler d'autres problèmes dans la méth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ignaler des résultats contradictoires émanant de sources diffé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ffrir l'expertise de l'ONG pour assister les collecteurs de données offici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E PEUVENT FAIRE LES ONG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2077560"/>
            <a:ext cx="883944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997 : Le Réseau de travail sur le Genre en Tanzanie entreprit de travailler sur la B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n commençant par une évaluation sexo-specifique des politiques dans l'éducation, la santé, l'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998 : Le Ministère des Finances entreprit des travaux de BSG à l'intérieur du gouver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emanda au TNGP d‘assister les fonctionnaires de secteurs précis dans la formation et le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nsuite, le TGNP est allé au-delà du budget pour influencer le secteur plus large de la planification macroécono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Réalisation d’une enquête sur l'utilisation du temps afin de produire les données manqu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Organisation de réunions &amp; ateliers avec la Commission de Planification pour la sensi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laidoyer pour obtenir la désagrégation selon le sexe de la partie du modèle macroéconomique relative à la main d'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mmission d’une étude basée sur le nouveau modèle macroéconomique désagrégé selon le sexe pour montrer le potentiel ex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PLAIDOYER D’UNE ONG TANZANIENNE  SUR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’UTILISATION DU TE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00:53Z</dcterms:created>
  <dc:creator>Meli</dc:creator>
  <dc:description/>
  <dc:language>en-US</dc:language>
  <cp:lastModifiedBy>natalia  tomaszewska</cp:lastModifiedBy>
  <dcterms:modified xsi:type="dcterms:W3CDTF">2007-03-08T22:11:57Z</dcterms:modified>
  <cp:revision>24</cp:revision>
  <dc:subject/>
  <dc:title>PowerPoint Presentation</dc:title>
</cp:coreProperties>
</file>