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81880" y="6324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1A9C-B2C8-4D04-A1CF-DF12E0AE07E1}" type="slidenum">
              <a:rPr b="0" lang="en-US" sz="1600" spc="-1" strike="noStrike">
                <a:solidFill>
                  <a:srgbClr val="f0813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  <a:ea typeface="Arial"/>
              </a:rPr>
              <a:t>PLANIFICATION &amp; TRANSFORMATION DE LA POLI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QUELLE AIDE LA BSG PEUT-ELLE APPORTER 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6880" y="837720"/>
            <a:ext cx="79995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EXEMPLES D'INDICATEURS DANS LA BUDGÉTISATION BASÉE SUR LA PERFORMANCE POUR LE DÉVELOPPEMENT DE LA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19120" y="2057400"/>
            <a:ext cx="8091360" cy="4254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25760" y="230184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  <a:ea typeface="Arial"/>
              </a:rPr>
              <a:t>Objectifs de la poli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048120"/>
            <a:ext cx="29718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 Narrow"/>
                <a:ea typeface="Arial"/>
              </a:rPr>
              <a:t>Indicateurs d'en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  <a:ea typeface="Arial"/>
              </a:rPr>
              <a:t>Budget, équipement, sorties de services, employés, logistique, construc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76560" y="3168720"/>
            <a:ext cx="26694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 Narrow"/>
                <a:ea typeface="Arial"/>
              </a:rPr>
              <a:t>Indicateurs de proces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Arial"/>
              </a:rPr>
              <a:t>Formation HRD, Contrôle/ Super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132440"/>
            <a:ext cx="297180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ndicateurs de so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Performance, Utilisateurs de contraceptifs, 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uple-années d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54100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ndicateurs de Résultat/Impact</a:t>
            </a: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: Taux de Prévalence de la Contraception (TPC), 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Taux Total de Fertilité (TTF), Taux de 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roissance de la Population (TC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2030040"/>
            <a:ext cx="8686800" cy="30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 partir de l'examen des formats des budge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a budgétisation basée sur la performance peut revêtir différentes for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a budgétisation basée sur la performance fonctionne mieux dans le cadre de budgets organisés par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s objectifs de la budgétisation basée sur la performance devraient être liés au plan de développement global du gouver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s initiatives de BSG doivent davantage prendre en considération les politiques de développements et de plan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s initiatives de BSG doivent donner définir par ordre de priorité les problèmes qu’elles cherchent a résoudre afin d’éviter d’être  submerg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QUELQUES IDÉES FI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207160"/>
            <a:ext cx="761976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50: Formulation de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58: Guide mexicain de formulation des budgets du secteur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RÉFÉRENCE DU GUIDE PRAT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2361600"/>
            <a:ext cx="8686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cherch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349"/>
              </a:spcBef>
              <a:buClr>
                <a:srgbClr val="d7761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Habituellement entreprise en dehors du gouvernement, comme base de plaidoyer, mais le gouvernement peut effectuer des recherches pour informer les politiques et budg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laidoy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34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Habituellement entrepris en dehors du gouvernement mais PEUT être au sein du gouvernement &amp; du 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trôl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00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ôle-clé du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ar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34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e gouvernemen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devrait effectuer un contrôle dans le cadre de sa fonction de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34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a société civil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peut contrôler l'implémentation du 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rm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34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our qui ? Par qui ? Pour faire quoi et apprendre quoi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nsibilis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34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our qui ? Par qui ? Pour parvenir à quoi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alyse &amp; conception des politiqu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34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C'est le rôle du Gouvernement mais il peut impliquer d'autres ac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533520"/>
            <a:ext cx="7313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ACTIVITÉS COMMUNES DE LA BS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6880" y="533520"/>
            <a:ext cx="79995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LES 5 ÉTAPES DE L'ANALYSE DE GENRE DES BUDG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951560"/>
            <a:ext cx="83818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écrire la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situation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des femmes &amp; des hommes, des filles &amp; des garç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Vérifier si la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olitique est sensible au genre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par ex. si elle aborde la situation décrite dans l'étap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Vérifier qu’un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udget adéquat est alloué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pour implémenter la politique sensible au gen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Vérifier que les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épenses sont faite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comme prév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Examiner l'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mpact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de la politique et des dépenses par ex. si cela a promu l'égalité des gen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a plupart des points exposés ci-dessus sont familiers aux personnes travaillant sur l'intégration des gen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a valeur ajoutée est l'inclusion des questions liées au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nsistez sur le fait que la situation détermine la politique qui à son tour détermine l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s 5 étapes peuvent être utili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ar ceux en dehors du gouvernement pour évaluer l'action du gouver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ar le gouvernement pour planifier au moyen de l'implémentation ou pour le suivi/éval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902600"/>
            <a:ext cx="86868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méliore l'efficacité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en s'assurant que les dépenses vont à ceux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qui en ont le plus bes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méliore le contrô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en sachant quelles personnes les servic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u gouvernement atteig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ontrôle l'implément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et réduit la corru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méliore la transparence et la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ournit un rapport sur la progressio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avec les engagement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ris au plan national et international pour promouvoir le 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AVANTAGES DU TRAVAIL DE BSG POUR LE GOUVERN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92760" y="738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USAGES DE LA BSG POUR LE GOUVERN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05120" y="202572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6720" y="355284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udgétisation Sensible a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48800" y="6076800"/>
            <a:ext cx="1662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Management d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l’ éxécu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87520" y="1600200"/>
            <a:ext cx="2003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Identifier les priorité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6960" y="2295360"/>
            <a:ext cx="1102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Evalu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0440" y="3714840"/>
            <a:ext cx="982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Contr</a:t>
            </a:r>
            <a:r>
              <a:rPr b="0" lang="fr-FR" sz="1900" spc="-1" strike="noStrike">
                <a:solidFill>
                  <a:srgbClr val="000000"/>
                </a:solidFill>
                <a:latin typeface="Arial Narrow"/>
                <a:ea typeface="Arial"/>
              </a:rPr>
              <a:t>ô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l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8680" y="4968720"/>
            <a:ext cx="158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Suivi et contr</a:t>
            </a:r>
            <a:r>
              <a:rPr b="0" lang="fr-FR" sz="1900" spc="-1" strike="noStrike">
                <a:solidFill>
                  <a:srgbClr val="000000"/>
                </a:solidFill>
                <a:latin typeface="Arial Narrow"/>
                <a:ea typeface="Arial"/>
              </a:rPr>
              <a:t>ô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520" y="2266920"/>
            <a:ext cx="2024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Promouvoir l’ égalité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63600" y="3746520"/>
            <a:ext cx="1245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Planif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9280" y="4952880"/>
            <a:ext cx="2268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Utilisation optimale des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ressources  Humain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GUIDE MEXICAIN POUR L'ÉTABLISSEMENT DU BUDGET DANS LE SECTEUR DE LA SAN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68920"/>
            <a:ext cx="868680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Guide développé en collaboration avec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Ministère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2 ONG – une pour l'analyse du budget &amp; une pour les droits des fe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But : Assister les planificateurs du gouvernement pour la conception de politiques &amp; budgets sensibles au gen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ntroduc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La BSG ne s’int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é</a:t>
            </a: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resse pas</a:t>
            </a: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à</a:t>
            </a: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mbien d'argent est dépensé en services pour les fe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La BSG consiste à allouer de l'argent aux activités qui éliminent les barrières genre envers (principalement) les femmes et (parfois) les hommes accédant aux services de san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ix étapes pour la formulation de budgets sensibles au gen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Diagnostic 1 : Révision du diagnostic en utilisant une perspective d'égalité des gen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Diagnostic 2 : Analyse de l'égalité des gen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rogrammation 1 : Détermination des composantes et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rogrammation 2 : Détermination des prior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Budgétisation 1 : Allocation de ressources pour corriger l'inégalité des gen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Budgétisation 2 : Identification d'indic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7240" y="658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GUIDE MEXICAIN POUR L'ÉTABLISSEMENT DU BUDGET DANS LE SECTEUR DE LA SANTÉ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80000"/>
            <a:ext cx="86868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3 catégories correspondant aux 3 premières étapes de l'approche en 5 é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Exprimé plus clairement en actions à entreprendre par les fonctionnaires lorsqu'ils établissent les bu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 guide insiste sur la prioritisation des stratégies et actions ayant un impact considérable sur l'égalité des gen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l ne s'agit pas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(habituellement) de changer les programmes exi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l s'agit d'incorporer progressivement des critères d'égalité de genres dans chaque 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Questions pour aider à l'incorporation du gen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ans quelles rubriques existantes des fonds dédiés à des actions envers l'égalité de genres peuvent-ils être inclu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ans quels composantes existantes de nouvelles rubriques (ou sous-programmes) peuvent-elle être inclus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Est-il nécessaire d'allouer des ressources pour créer de nouvelles/meilleures donné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ertaines ressources devraient-elles être dirigées vers des groupes particuliers pour apporter une solution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leurs besoins spécifiqu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2085480"/>
            <a:ext cx="86868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Selon la gestion budgétaire axée sur la performance, les budgets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ne concernent pas uniquement la comptabilité financ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evraient aligner l'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argen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avec les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olitique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et les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objectifs globaux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du gouvernement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(y compris l'égalité des gen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a lettre circulaire pour la budgétisation basée sur la performance énonce habituellement que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s agences doivent présenter 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a mission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s but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s problèmes stratégique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, </a:t>
            </a:r>
            <a:r>
              <a:rPr b="1" i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s objectifs, les indicateurs de performanc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a budgétisation axée sur la performance s’inscrit dans le même cadre que l'approche en 5 é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ais la BSG ajoute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Equité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aux 3 E traditionnels 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savoir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Economie, Efficacité et Effectiv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ncorporer le genre à la budgétisation basée sur la performance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s problèmes de genre peuvent explicitement ou implicitement être reflétés dans les </a:t>
            </a:r>
            <a:r>
              <a:rPr b="0" i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objec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 genre peut explicitement être reflété par la </a:t>
            </a:r>
            <a:r>
              <a:rPr b="0" i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ésagrégation des cibles et indic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 genre peut être reflété par l'inclusion de </a:t>
            </a:r>
            <a:r>
              <a:rPr b="0" i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ibles et indicateurs qui se concentrent sur des problèmes pertinents pour le genre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ar ex. la violence envers les femmes ou la fert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BSG &amp; GESTION BUDGÉTAIRE AXÉE SUR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LA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GESTION BUDGÉTAIRE AXÉE SUR LA PERFORMANCE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ET LES 3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39560" y="2133720"/>
            <a:ext cx="8212320" cy="424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91080" y="2274840"/>
            <a:ext cx="1451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ovide health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care which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events dise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06560" y="2274840"/>
            <a:ext cx="126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labor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nfrastructur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1520" y="2274840"/>
            <a:ext cx="111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Glaucoma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ye diseas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cre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4720" y="227484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Reduce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evalence of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y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250020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85680" y="4179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417996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35680" y="417996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ffect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42760" y="5614920"/>
            <a:ext cx="119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st of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edical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74800" y="561492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st per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cre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2760" y="5500800"/>
            <a:ext cx="15494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Detection rates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of glaucoma for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target popu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1240" y="181764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licy 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2040" y="181764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40160" y="1817640"/>
            <a:ext cx="68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72120" y="181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8840" y="181764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848720" y="1939680"/>
            <a:ext cx="75960" cy="152280"/>
          </a:xfrm>
          <a:prstGeom prst="line">
            <a:avLst/>
          </a:prstGeom>
          <a:ln w="9360">
            <a:solidFill>
              <a:srgbClr val="f0813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10040" y="166536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utr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880" y="574848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rformance 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5486400"/>
            <a:ext cx="7772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Figure 2.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he basic structur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outcomes and outpu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udgeting application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 health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21:33:58Z</dcterms:created>
  <dc:creator>Meli</dc:creator>
  <dc:description/>
  <dc:language>en-US</dc:language>
  <cp:lastModifiedBy>natalia  tomaszewska</cp:lastModifiedBy>
  <dcterms:modified xsi:type="dcterms:W3CDTF">2007-03-08T19:10:37Z</dcterms:modified>
  <cp:revision>57</cp:revision>
  <dc:subject/>
  <dc:title>PowerPoint Presentation</dc:title>
</cp:coreProperties>
</file>